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22.png" ContentType="image/png"/>
  <Override PartName="/ppt/media/image4.wmf" ContentType="image/x-wmf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B83-6430-4E35-9B23-C943D408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39AA-F5F5-4369-ACA2-FEF10A89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384C-22FC-404F-A868-17A1390B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019-0E28-4B0B-9F40-5FB3B2C5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1366-C7ED-49D4-879B-BE624A94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F5E-E3A3-4020-8215-DE86499A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C1B-BC51-4031-94C5-AC7C04C3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CD2-B798-45EC-BB6C-7A8A08DC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24F-DF4E-4765-A6C4-E75F82A7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4457-4448-4716-B873-073B3489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DCC6-45C6-4F91-A456-77E87C06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9D9-C163-4DED-8740-2703D2E6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CB96-B0FD-4444-9526-C15BE2335596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2E66-C999-4B59-A65C-2C554724618C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701160" y="38185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8081f"/>
                </a:solidFill>
                <a:latin typeface="黑体"/>
                <a:ea typeface="黑体"/>
              </a:rPr>
              <a:t>小结与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187280" y="2637000"/>
            <a:ext cx="70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二章 简单机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4"/>
          <p:cNvSpPr/>
          <p:nvPr/>
        </p:nvSpPr>
        <p:spPr>
          <a:xfrm>
            <a:off x="576360" y="3122640"/>
            <a:ext cx="7956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解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8081f"/>
                </a:solidFill>
                <a:latin typeface="Times New Roman"/>
                <a:ea typeface="楷体"/>
              </a:rPr>
              <a:t>　　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应为整数 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　　应用两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动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两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定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滑轮组，绳子固定端在定滑轮下，最多能提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611280" y="836640"/>
            <a:ext cx="7092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根绳子最多能承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拉力，要提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重物，应用什么样的滑轮组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滑轮重力不计要求向下拉且滑轮个数最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这个滑轮组最多能提起多重的物体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3" descr=""/>
          <p:cNvPicPr/>
          <p:nvPr/>
        </p:nvPicPr>
        <p:blipFill>
          <a:blip r:embed="rId1"/>
          <a:stretch/>
        </p:blipFill>
        <p:spPr>
          <a:xfrm>
            <a:off x="3780000" y="2997360"/>
            <a:ext cx="3682800" cy="952200"/>
          </a:xfrm>
          <a:prstGeom prst="rect">
            <a:avLst/>
          </a:prstGeom>
          <a:ln w="0">
            <a:noFill/>
          </a:ln>
        </p:spPr>
      </p:pic>
      <p:pic>
        <p:nvPicPr>
          <p:cNvPr id="297" name="Object 47" descr=""/>
          <p:cNvPicPr/>
          <p:nvPr/>
        </p:nvPicPr>
        <p:blipFill>
          <a:blip r:embed="rId2"/>
          <a:stretch/>
        </p:blipFill>
        <p:spPr>
          <a:xfrm>
            <a:off x="1763640" y="2997360"/>
            <a:ext cx="1714680" cy="838080"/>
          </a:xfrm>
          <a:prstGeom prst="rect">
            <a:avLst/>
          </a:prstGeom>
          <a:ln w="0">
            <a:noFill/>
          </a:ln>
        </p:spPr>
      </p:pic>
      <p:pic>
        <p:nvPicPr>
          <p:cNvPr id="298" name="Object 42" descr=""/>
          <p:cNvPicPr/>
          <p:nvPr/>
        </p:nvPicPr>
        <p:blipFill>
          <a:blip r:embed="rId3"/>
          <a:stretch/>
        </p:blipFill>
        <p:spPr>
          <a:xfrm>
            <a:off x="1908000" y="5734080"/>
            <a:ext cx="423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8"/>
          <p:cNvGrpSpPr/>
          <p:nvPr/>
        </p:nvGrpSpPr>
        <p:grpSpPr>
          <a:xfrm>
            <a:off x="7812000" y="1233360"/>
            <a:ext cx="1152360" cy="3347280"/>
            <a:chOff x="7812000" y="1233360"/>
            <a:chExt cx="1152360" cy="3347280"/>
          </a:xfrm>
        </p:grpSpPr>
        <p:sp>
          <p:nvSpPr>
            <p:cNvPr id="300" name="Line 3"/>
            <p:cNvSpPr/>
            <p:nvPr/>
          </p:nvSpPr>
          <p:spPr>
            <a:xfrm flipV="1">
              <a:off x="8806320" y="1609920"/>
              <a:ext cx="0" cy="207468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4"/>
            <p:cNvSpPr/>
            <p:nvPr/>
          </p:nvSpPr>
          <p:spPr>
            <a:xfrm flipH="1">
              <a:off x="8119800" y="1610280"/>
              <a:ext cx="158400" cy="127332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5"/>
            <p:cNvSpPr/>
            <p:nvPr/>
          </p:nvSpPr>
          <p:spPr>
            <a:xfrm flipH="1">
              <a:off x="8384040" y="2317680"/>
              <a:ext cx="158400" cy="8960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6"/>
            <p:cNvSpPr/>
            <p:nvPr/>
          </p:nvSpPr>
          <p:spPr>
            <a:xfrm>
              <a:off x="8700480" y="2034360"/>
              <a:ext cx="0" cy="12733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7"/>
            <p:cNvSpPr/>
            <p:nvPr/>
          </p:nvSpPr>
          <p:spPr>
            <a:xfrm flipH="1">
              <a:off x="8278200" y="2034360"/>
              <a:ext cx="105480" cy="16502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49"/>
            <p:cNvGrpSpPr/>
            <p:nvPr/>
          </p:nvGrpSpPr>
          <p:grpSpPr>
            <a:xfrm>
              <a:off x="8278560" y="2977560"/>
              <a:ext cx="527760" cy="1603080"/>
              <a:chOff x="8278560" y="2977560"/>
              <a:chExt cx="527760" cy="1603080"/>
            </a:xfrm>
          </p:grpSpPr>
          <p:grpSp>
            <p:nvGrpSpPr>
              <p:cNvPr id="306" name="Group 8"/>
              <p:cNvGrpSpPr/>
              <p:nvPr/>
            </p:nvGrpSpPr>
            <p:grpSpPr>
              <a:xfrm>
                <a:off x="8331120" y="4061520"/>
                <a:ext cx="369000" cy="519120"/>
                <a:chOff x="8331120" y="4061520"/>
                <a:chExt cx="369000" cy="519120"/>
              </a:xfrm>
            </p:grpSpPr>
            <p:sp>
              <p:nvSpPr>
                <p:cNvPr id="307" name="Rectangle 9"/>
                <p:cNvSpPr/>
                <p:nvPr/>
              </p:nvSpPr>
              <p:spPr>
                <a:xfrm>
                  <a:off x="8331120" y="4165200"/>
                  <a:ext cx="369000" cy="4154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0"/>
                <p:cNvSpPr/>
                <p:nvPr/>
              </p:nvSpPr>
              <p:spPr>
                <a:xfrm>
                  <a:off x="8515440" y="4061520"/>
                  <a:ext cx="0" cy="103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39"/>
              <p:cNvGrpSpPr/>
              <p:nvPr/>
            </p:nvGrpSpPr>
            <p:grpSpPr>
              <a:xfrm>
                <a:off x="8278560" y="2977560"/>
                <a:ext cx="527760" cy="1103040"/>
                <a:chOff x="8278560" y="2977560"/>
                <a:chExt cx="527760" cy="1103040"/>
              </a:xfrm>
            </p:grpSpPr>
            <p:sp>
              <p:nvSpPr>
                <p:cNvPr id="310" name="Oval 12"/>
                <p:cNvSpPr/>
                <p:nvPr/>
              </p:nvSpPr>
              <p:spPr>
                <a:xfrm>
                  <a:off x="8384040" y="3118320"/>
                  <a:ext cx="316080" cy="2829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13"/>
                <p:cNvSpPr/>
                <p:nvPr/>
              </p:nvSpPr>
              <p:spPr>
                <a:xfrm>
                  <a:off x="8278560" y="3449520"/>
                  <a:ext cx="527760" cy="47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Rectangle 14"/>
                <p:cNvSpPr/>
                <p:nvPr/>
              </p:nvSpPr>
              <p:spPr>
                <a:xfrm>
                  <a:off x="8518680" y="3071520"/>
                  <a:ext cx="62280" cy="896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15"/>
                <p:cNvSpPr/>
                <p:nvPr/>
              </p:nvSpPr>
              <p:spPr>
                <a:xfrm rot="10800000">
                  <a:off x="8489880" y="4019400"/>
                  <a:ext cx="73440" cy="612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Rectangle 16"/>
                <p:cNvSpPr/>
                <p:nvPr/>
              </p:nvSpPr>
              <p:spPr>
                <a:xfrm rot="10800000">
                  <a:off x="8530920" y="4008600"/>
                  <a:ext cx="63360" cy="5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7"/>
                <p:cNvSpPr/>
                <p:nvPr/>
              </p:nvSpPr>
              <p:spPr>
                <a:xfrm flipV="1">
                  <a:off x="8532000" y="3967560"/>
                  <a:ext cx="0" cy="5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18"/>
                <p:cNvSpPr/>
                <p:nvPr/>
              </p:nvSpPr>
              <p:spPr>
                <a:xfrm>
                  <a:off x="8521200" y="2977560"/>
                  <a:ext cx="73080" cy="612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Rectangle 19"/>
                <p:cNvSpPr/>
                <p:nvPr/>
              </p:nvSpPr>
              <p:spPr>
                <a:xfrm>
                  <a:off x="8489880" y="2997720"/>
                  <a:ext cx="63720" cy="5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20"/>
                <p:cNvSpPr/>
                <p:nvPr/>
              </p:nvSpPr>
              <p:spPr>
                <a:xfrm>
                  <a:off x="8553960" y="3038760"/>
                  <a:ext cx="0" cy="5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21"/>
                <p:cNvSpPr/>
                <p:nvPr/>
              </p:nvSpPr>
              <p:spPr>
                <a:xfrm>
                  <a:off x="8521200" y="3674880"/>
                  <a:ext cx="42120" cy="1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22"/>
                <p:cNvSpPr/>
                <p:nvPr/>
              </p:nvSpPr>
              <p:spPr>
                <a:xfrm>
                  <a:off x="8521200" y="3248640"/>
                  <a:ext cx="42120" cy="1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1" name="Group 48"/>
            <p:cNvGrpSpPr/>
            <p:nvPr/>
          </p:nvGrpSpPr>
          <p:grpSpPr>
            <a:xfrm>
              <a:off x="8119800" y="1233360"/>
              <a:ext cx="844560" cy="1167120"/>
              <a:chOff x="8119800" y="1233360"/>
              <a:chExt cx="844560" cy="1167120"/>
            </a:xfrm>
          </p:grpSpPr>
          <p:sp>
            <p:nvSpPr>
              <p:cNvPr id="322" name="Line 23"/>
              <p:cNvSpPr/>
              <p:nvPr/>
            </p:nvSpPr>
            <p:spPr>
              <a:xfrm>
                <a:off x="8119800" y="1233360"/>
                <a:ext cx="84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" name="Group 40"/>
              <p:cNvGrpSpPr/>
              <p:nvPr/>
            </p:nvGrpSpPr>
            <p:grpSpPr>
              <a:xfrm>
                <a:off x="8272800" y="1233360"/>
                <a:ext cx="527040" cy="1167120"/>
                <a:chOff x="8272800" y="1233360"/>
                <a:chExt cx="527040" cy="1167120"/>
              </a:xfrm>
            </p:grpSpPr>
            <p:sp>
              <p:nvSpPr>
                <p:cNvPr id="324" name="Line 25"/>
                <p:cNvSpPr/>
                <p:nvPr/>
              </p:nvSpPr>
              <p:spPr>
                <a:xfrm>
                  <a:off x="8551800" y="24004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26"/>
                <p:cNvSpPr/>
                <p:nvPr/>
              </p:nvSpPr>
              <p:spPr>
                <a:xfrm flipV="1">
                  <a:off x="8379720" y="1912680"/>
                  <a:ext cx="315720" cy="2829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27"/>
                <p:cNvSpPr/>
                <p:nvPr/>
              </p:nvSpPr>
              <p:spPr>
                <a:xfrm flipV="1">
                  <a:off x="8272800" y="1393560"/>
                  <a:ext cx="527040" cy="47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28"/>
                <p:cNvSpPr/>
                <p:nvPr/>
              </p:nvSpPr>
              <p:spPr>
                <a:xfrm flipV="1">
                  <a:off x="8502840" y="1345680"/>
                  <a:ext cx="62280" cy="896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29"/>
                <p:cNvSpPr/>
                <p:nvPr/>
              </p:nvSpPr>
              <p:spPr>
                <a:xfrm flipV="1" rot="10800000">
                  <a:off x="8489160" y="1233360"/>
                  <a:ext cx="73440" cy="612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30"/>
                <p:cNvSpPr/>
                <p:nvPr/>
              </p:nvSpPr>
              <p:spPr>
                <a:xfrm flipV="1" rot="10800000">
                  <a:off x="8530200" y="1253520"/>
                  <a:ext cx="63360" cy="5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31"/>
                <p:cNvSpPr/>
                <p:nvPr/>
              </p:nvSpPr>
              <p:spPr>
                <a:xfrm>
                  <a:off x="8531280" y="1294560"/>
                  <a:ext cx="0" cy="5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32"/>
                <p:cNvSpPr/>
                <p:nvPr/>
              </p:nvSpPr>
              <p:spPr>
                <a:xfrm flipV="1">
                  <a:off x="8520480" y="2274480"/>
                  <a:ext cx="73080" cy="60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Rectangle 33"/>
                <p:cNvSpPr/>
                <p:nvPr/>
              </p:nvSpPr>
              <p:spPr>
                <a:xfrm flipV="1">
                  <a:off x="8489160" y="2264400"/>
                  <a:ext cx="63720" cy="5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34"/>
                <p:cNvSpPr/>
                <p:nvPr/>
              </p:nvSpPr>
              <p:spPr>
                <a:xfrm flipV="1">
                  <a:off x="8553240" y="2223360"/>
                  <a:ext cx="0" cy="5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35"/>
                <p:cNvSpPr/>
                <p:nvPr/>
              </p:nvSpPr>
              <p:spPr>
                <a:xfrm flipV="1">
                  <a:off x="8502840" y="1636560"/>
                  <a:ext cx="41760" cy="1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36"/>
                <p:cNvSpPr/>
                <p:nvPr/>
              </p:nvSpPr>
              <p:spPr>
                <a:xfrm flipV="1">
                  <a:off x="8502840" y="2035440"/>
                  <a:ext cx="37800" cy="32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6" name="Text Box 37"/>
            <p:cNvSpPr/>
            <p:nvPr/>
          </p:nvSpPr>
          <p:spPr>
            <a:xfrm>
              <a:off x="7812000" y="2702880"/>
              <a:ext cx="69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  <a:ea typeface="楷体"/>
                </a:rPr>
                <a:t>F</a:t>
              </a:r>
              <a:r>
                <a:rPr b="1" i="1" lang="en-US" sz="4000" spc="-1" strike="noStrike">
                  <a:solidFill>
                    <a:srgbClr val="ed7d31"/>
                  </a:solidFill>
                  <a:latin typeface="Times New Roman"/>
                  <a:ea typeface="楷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647640" y="944640"/>
            <a:ext cx="4824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81f"/>
                </a:solidFill>
                <a:latin typeface="黑体"/>
                <a:ea typeface="黑体"/>
              </a:rPr>
              <a:t>二、机械效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7"/>
          <p:cNvSpPr/>
          <p:nvPr/>
        </p:nvSpPr>
        <p:spPr>
          <a:xfrm>
            <a:off x="900000" y="2023920"/>
            <a:ext cx="7488360" cy="3637080"/>
          </a:xfrm>
          <a:prstGeom prst="roundRect">
            <a:avLst>
              <a:gd name="adj" fmla="val 10421"/>
            </a:avLst>
          </a:prstGeom>
          <a:solidFill>
            <a:srgbClr val="ffffcc"/>
          </a:solidFill>
          <a:ln w="25560">
            <a:solidFill>
              <a:srgbClr val="3d8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机械效率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用功跟总功的比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百分数表示，总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Object 5" descr=""/>
          <p:cNvPicPr/>
          <p:nvPr/>
        </p:nvPicPr>
        <p:blipFill>
          <a:blip r:embed="rId1"/>
          <a:stretch/>
        </p:blipFill>
        <p:spPr>
          <a:xfrm>
            <a:off x="2916360" y="3578400"/>
            <a:ext cx="1260360" cy="11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647640" y="692280"/>
            <a:ext cx="7150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滑轮组的机械效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Object 2" descr=""/>
          <p:cNvPicPr/>
          <p:nvPr/>
        </p:nvPicPr>
        <p:blipFill>
          <a:blip r:embed="rId1"/>
          <a:stretch/>
        </p:blipFill>
        <p:spPr>
          <a:xfrm>
            <a:off x="2951280" y="1341360"/>
            <a:ext cx="2205000" cy="1192320"/>
          </a:xfrm>
          <a:prstGeom prst="rect">
            <a:avLst/>
          </a:prstGeom>
          <a:ln w="0">
            <a:noFill/>
          </a:ln>
        </p:spPr>
      </p:pic>
      <p:sp>
        <p:nvSpPr>
          <p:cNvPr id="342" name="矩形 4"/>
          <p:cNvSpPr/>
          <p:nvPr/>
        </p:nvSpPr>
        <p:spPr>
          <a:xfrm>
            <a:off x="647640" y="1665360"/>
            <a:ext cx="194472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实验原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826920" y="4425840"/>
            <a:ext cx="7704360" cy="1400760"/>
          </a:xfrm>
          <a:prstGeom prst="rect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微软雅黑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微软雅黑"/>
              </a:rPr>
              <a:t>滑轮组的机械效率与滑轮轴摩擦、</a:t>
            </a:r>
            <a:r>
              <a:rPr b="1" lang="zh-CN" sz="2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动滑轮重、物重有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微软雅黑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动滑轮重一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微软雅黑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物重越大，机械效率越高。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物重一定，动滑轮越重，机械效率越低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01640" y="2430360"/>
            <a:ext cx="756144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测量量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公式计算中间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h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Object 2" descr=""/>
          <p:cNvPicPr/>
          <p:nvPr/>
        </p:nvPicPr>
        <p:blipFill>
          <a:blip r:embed="rId2"/>
          <a:stretch/>
        </p:blipFill>
        <p:spPr>
          <a:xfrm>
            <a:off x="3348000" y="3351240"/>
            <a:ext cx="1306440" cy="11574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9"/>
          <p:cNvSpPr/>
          <p:nvPr/>
        </p:nvSpPr>
        <p:spPr>
          <a:xfrm>
            <a:off x="1269720" y="3635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机械效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Object 2" descr=""/>
          <p:cNvPicPr/>
          <p:nvPr/>
        </p:nvPicPr>
        <p:blipFill>
          <a:blip r:embed="rId1"/>
          <a:stretch/>
        </p:blipFill>
        <p:spPr>
          <a:xfrm>
            <a:off x="4859280" y="1881360"/>
            <a:ext cx="3137040" cy="1077840"/>
          </a:xfrm>
          <a:prstGeom prst="rect">
            <a:avLst/>
          </a:prstGeom>
          <a:ln w="0">
            <a:noFill/>
          </a:ln>
        </p:spPr>
      </p:pic>
      <p:pic>
        <p:nvPicPr>
          <p:cNvPr id="348" name="Object 3" descr=""/>
          <p:cNvPicPr/>
          <p:nvPr/>
        </p:nvPicPr>
        <p:blipFill>
          <a:blip r:embed="rId2"/>
          <a:stretch/>
        </p:blipFill>
        <p:spPr>
          <a:xfrm>
            <a:off x="934920" y="4471920"/>
            <a:ext cx="4367160" cy="978120"/>
          </a:xfrm>
          <a:prstGeom prst="rect">
            <a:avLst/>
          </a:prstGeom>
          <a:ln w="0">
            <a:noFill/>
          </a:ln>
        </p:spPr>
      </p:pic>
      <p:grpSp>
        <p:nvGrpSpPr>
          <p:cNvPr id="349" name="Group 4"/>
          <p:cNvGrpSpPr/>
          <p:nvPr/>
        </p:nvGrpSpPr>
        <p:grpSpPr>
          <a:xfrm>
            <a:off x="6408720" y="2960640"/>
            <a:ext cx="1776600" cy="3222360"/>
            <a:chOff x="6408720" y="2960640"/>
            <a:chExt cx="1776600" cy="3222360"/>
          </a:xfrm>
        </p:grpSpPr>
        <p:pic>
          <p:nvPicPr>
            <p:cNvPr id="350" name="Picture 5" descr=""/>
            <p:cNvPicPr/>
            <p:nvPr/>
          </p:nvPicPr>
          <p:blipFill>
            <a:blip r:embed="rId3"/>
            <a:stretch/>
          </p:blipFill>
          <p:spPr>
            <a:xfrm>
              <a:off x="6408720" y="2960640"/>
              <a:ext cx="1776600" cy="32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6"/>
            <p:cNvSpPr/>
            <p:nvPr/>
          </p:nvSpPr>
          <p:spPr>
            <a:xfrm>
              <a:off x="7310880" y="4868640"/>
              <a:ext cx="535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1800" spc="-1" strike="noStrike" baseline="-25000">
                  <a:solidFill>
                    <a:srgbClr val="000000"/>
                  </a:solidFill>
                  <a:latin typeface="宋体"/>
                </a:rPr>
                <a:t>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7"/>
            <p:cNvSpPr/>
            <p:nvPr/>
          </p:nvSpPr>
          <p:spPr>
            <a:xfrm>
              <a:off x="7272360" y="5047920"/>
              <a:ext cx="730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8"/>
            <p:cNvSpPr/>
            <p:nvPr/>
          </p:nvSpPr>
          <p:spPr>
            <a:xfrm>
              <a:off x="6734520" y="3500280"/>
              <a:ext cx="383400" cy="45972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9"/>
            <p:cNvSpPr/>
            <p:nvPr/>
          </p:nvSpPr>
          <p:spPr>
            <a:xfrm flipH="1" flipV="1">
              <a:off x="7020000" y="3895200"/>
              <a:ext cx="108000" cy="576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10"/>
          <p:cNvGrpSpPr/>
          <p:nvPr/>
        </p:nvGrpSpPr>
        <p:grpSpPr>
          <a:xfrm>
            <a:off x="755640" y="1952640"/>
            <a:ext cx="3851280" cy="1549440"/>
            <a:chOff x="755640" y="1952640"/>
            <a:chExt cx="3851280" cy="1549440"/>
          </a:xfrm>
        </p:grpSpPr>
        <p:sp>
          <p:nvSpPr>
            <p:cNvPr id="356" name="Rectangle 11"/>
            <p:cNvSpPr/>
            <p:nvPr/>
          </p:nvSpPr>
          <p:spPr>
            <a:xfrm>
              <a:off x="755640" y="1952640"/>
              <a:ext cx="3851280" cy="154944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12"/>
            <p:cNvGrpSpPr/>
            <p:nvPr/>
          </p:nvGrpSpPr>
          <p:grpSpPr>
            <a:xfrm>
              <a:off x="934920" y="2133720"/>
              <a:ext cx="3456000" cy="1078920"/>
              <a:chOff x="934920" y="2133720"/>
              <a:chExt cx="3456000" cy="1078920"/>
            </a:xfrm>
          </p:grpSpPr>
          <p:pic>
            <p:nvPicPr>
              <p:cNvPr id="358" name="图片 21" descr="未标题-18"/>
              <p:cNvPicPr/>
              <p:nvPr/>
            </p:nvPicPr>
            <p:blipFill>
              <a:blip r:embed="rId4"/>
              <a:srcRect l="2539" t="20499" r="3875" b="12310"/>
              <a:stretch/>
            </p:blipFill>
            <p:spPr>
              <a:xfrm>
                <a:off x="934920" y="2323080"/>
                <a:ext cx="3456000" cy="88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Line 14"/>
              <p:cNvSpPr/>
              <p:nvPr/>
            </p:nvSpPr>
            <p:spPr>
              <a:xfrm flipV="1">
                <a:off x="1568160" y="2923920"/>
                <a:ext cx="1360080" cy="6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15"/>
              <p:cNvSpPr/>
              <p:nvPr/>
            </p:nvSpPr>
            <p:spPr>
              <a:xfrm flipV="1">
                <a:off x="1979640" y="2607120"/>
                <a:ext cx="885600" cy="3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16"/>
              <p:cNvSpPr/>
              <p:nvPr/>
            </p:nvSpPr>
            <p:spPr>
              <a:xfrm flipV="1">
                <a:off x="1947600" y="2766240"/>
                <a:ext cx="569520" cy="15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7"/>
              <p:cNvSpPr/>
              <p:nvPr/>
            </p:nvSpPr>
            <p:spPr>
              <a:xfrm>
                <a:off x="2273400" y="2133720"/>
                <a:ext cx="383400" cy="45972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18"/>
              <p:cNvSpPr/>
              <p:nvPr/>
            </p:nvSpPr>
            <p:spPr>
              <a:xfrm flipV="1">
                <a:off x="1504080" y="2480760"/>
                <a:ext cx="822960" cy="3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Text Box 19"/>
          <p:cNvSpPr/>
          <p:nvPr/>
        </p:nvSpPr>
        <p:spPr>
          <a:xfrm>
            <a:off x="755640" y="1160640"/>
            <a:ext cx="10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971640" y="836640"/>
            <a:ext cx="4186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95280" y="1557360"/>
            <a:ext cx="849636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．农村用来舂米的工具是一个杠杆，下图是它的结构示意图。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为固定转轴，在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端连接着石球，脚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端可以使石球升高，抬起脚，石球会落下击打稻谷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若石球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0 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要将石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抬起，脚至少用多大竖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向下的力？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摩擦和杠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自重均忽略不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10"/>
          <p:cNvGrpSpPr/>
          <p:nvPr/>
        </p:nvGrpSpPr>
        <p:grpSpPr>
          <a:xfrm>
            <a:off x="611280" y="836640"/>
            <a:ext cx="2055600" cy="633240"/>
            <a:chOff x="611280" y="836640"/>
            <a:chExt cx="2055600" cy="633240"/>
          </a:xfrm>
        </p:grpSpPr>
        <p:grpSp>
          <p:nvGrpSpPr>
            <p:cNvPr id="368" name="Group 11"/>
            <p:cNvGrpSpPr/>
            <p:nvPr/>
          </p:nvGrpSpPr>
          <p:grpSpPr>
            <a:xfrm>
              <a:off x="611280" y="841320"/>
              <a:ext cx="2055600" cy="596520"/>
              <a:chOff x="611280" y="841320"/>
              <a:chExt cx="2055600" cy="596520"/>
            </a:xfrm>
          </p:grpSpPr>
          <p:sp>
            <p:nvSpPr>
              <p:cNvPr id="369" name="MH_Other_2"/>
              <p:cNvSpPr/>
              <p:nvPr/>
            </p:nvSpPr>
            <p:spPr>
              <a:xfrm>
                <a:off x="729360" y="971280"/>
                <a:ext cx="1835280" cy="38088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0" name="MH_Other_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841320"/>
                <a:ext cx="2055600" cy="59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MH_Other_9"/>
              <p:cNvSpPr/>
              <p:nvPr/>
            </p:nvSpPr>
            <p:spPr>
              <a:xfrm>
                <a:off x="832320" y="1049760"/>
                <a:ext cx="221400" cy="21528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MH_Other_10"/>
              <p:cNvSpPr/>
              <p:nvPr/>
            </p:nvSpPr>
            <p:spPr>
              <a:xfrm>
                <a:off x="882720" y="109728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MH_SubTitle_4"/>
            <p:cNvSpPr/>
            <p:nvPr/>
          </p:nvSpPr>
          <p:spPr>
            <a:xfrm>
              <a:off x="1260360" y="836640"/>
              <a:ext cx="12978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随堂训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4" name="Picture 50" descr=""/>
          <p:cNvPicPr/>
          <p:nvPr/>
        </p:nvPicPr>
        <p:blipFill>
          <a:blip r:embed="rId2"/>
          <a:stretch/>
        </p:blipFill>
        <p:spPr>
          <a:xfrm>
            <a:off x="1042920" y="3141720"/>
            <a:ext cx="3529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611280" y="1160640"/>
            <a:ext cx="7848360" cy="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杠杆由图中位置到水平位置的过程中，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何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611280" y="2384280"/>
            <a:ext cx="2606760" cy="2665080"/>
            <a:chOff x="611280" y="2384280"/>
            <a:chExt cx="2606760" cy="2665080"/>
          </a:xfrm>
        </p:grpSpPr>
        <p:pic>
          <p:nvPicPr>
            <p:cNvPr id="377" name="Picture 4" descr=""/>
            <p:cNvPicPr/>
            <p:nvPr/>
          </p:nvPicPr>
          <p:blipFill>
            <a:blip r:embed="rId1"/>
            <a:stretch/>
          </p:blipFill>
          <p:spPr>
            <a:xfrm>
              <a:off x="611280" y="2384280"/>
              <a:ext cx="2420640" cy="19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 Box 5"/>
            <p:cNvSpPr/>
            <p:nvPr/>
          </p:nvSpPr>
          <p:spPr>
            <a:xfrm>
              <a:off x="611280" y="4549680"/>
              <a:ext cx="2606760" cy="49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力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始终与杠杆垂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6"/>
          <p:cNvGrpSpPr/>
          <p:nvPr/>
        </p:nvGrpSpPr>
        <p:grpSpPr>
          <a:xfrm>
            <a:off x="3132000" y="2421000"/>
            <a:ext cx="2829240" cy="2592000"/>
            <a:chOff x="3132000" y="2421000"/>
            <a:chExt cx="2829240" cy="2592000"/>
          </a:xfrm>
        </p:grpSpPr>
        <p:pic>
          <p:nvPicPr>
            <p:cNvPr id="380" name="Picture 7" descr=""/>
            <p:cNvPicPr/>
            <p:nvPr/>
          </p:nvPicPr>
          <p:blipFill>
            <a:blip r:embed="rId2"/>
            <a:stretch/>
          </p:blipFill>
          <p:spPr>
            <a:xfrm>
              <a:off x="3132000" y="2421000"/>
              <a:ext cx="245196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Text Box 8"/>
            <p:cNvSpPr/>
            <p:nvPr/>
          </p:nvSpPr>
          <p:spPr>
            <a:xfrm>
              <a:off x="3320640" y="4527000"/>
              <a:ext cx="2640600" cy="4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力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方向始终水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9"/>
          <p:cNvGrpSpPr/>
          <p:nvPr/>
        </p:nvGrpSpPr>
        <p:grpSpPr>
          <a:xfrm>
            <a:off x="6012000" y="2384280"/>
            <a:ext cx="2700360" cy="2592360"/>
            <a:chOff x="6012000" y="2384280"/>
            <a:chExt cx="2700360" cy="2592360"/>
          </a:xfrm>
        </p:grpSpPr>
        <p:pic>
          <p:nvPicPr>
            <p:cNvPr id="383" name="Picture 10" descr=""/>
            <p:cNvPicPr/>
            <p:nvPr/>
          </p:nvPicPr>
          <p:blipFill>
            <a:blip r:embed="rId3"/>
            <a:srcRect l="0" t="0" r="-2704" b="16687"/>
            <a:stretch/>
          </p:blipFill>
          <p:spPr>
            <a:xfrm>
              <a:off x="6012000" y="2384280"/>
              <a:ext cx="215892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Text Box 11"/>
            <p:cNvSpPr/>
            <p:nvPr/>
          </p:nvSpPr>
          <p:spPr>
            <a:xfrm>
              <a:off x="6084720" y="4491000"/>
              <a:ext cx="26276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力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方向始终竖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68360" y="973080"/>
            <a:ext cx="813600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质量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物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放在水平桌面上，利用下图装置使物体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速度做匀速直线运动，弹簧测力计始终保持水平，其示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不计绳子的伸长和滑轮组内部的摩擦，则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N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作用在绳端的拉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＿＿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水平桌面对物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摩擦力是＿＿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拉力作用点移动＿＿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3"/>
          <p:cNvGrpSpPr/>
          <p:nvPr/>
        </p:nvGrpSpPr>
        <p:grpSpPr>
          <a:xfrm>
            <a:off x="1933560" y="4770360"/>
            <a:ext cx="5491080" cy="1440000"/>
            <a:chOff x="1933560" y="4770360"/>
            <a:chExt cx="5491080" cy="1440000"/>
          </a:xfrm>
        </p:grpSpPr>
        <p:sp>
          <p:nvSpPr>
            <p:cNvPr id="387" name="Rectangle 4"/>
            <p:cNvSpPr/>
            <p:nvPr/>
          </p:nvSpPr>
          <p:spPr>
            <a:xfrm>
              <a:off x="1933560" y="4770360"/>
              <a:ext cx="5491080" cy="144000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5"/>
            <p:cNvGrpSpPr/>
            <p:nvPr/>
          </p:nvGrpSpPr>
          <p:grpSpPr>
            <a:xfrm>
              <a:off x="2563560" y="4770360"/>
              <a:ext cx="4463640" cy="1297080"/>
              <a:chOff x="2563560" y="4770360"/>
              <a:chExt cx="4463640" cy="1297080"/>
            </a:xfrm>
          </p:grpSpPr>
          <p:grpSp>
            <p:nvGrpSpPr>
              <p:cNvPr id="389" name="Group 6"/>
              <p:cNvGrpSpPr/>
              <p:nvPr/>
            </p:nvGrpSpPr>
            <p:grpSpPr>
              <a:xfrm>
                <a:off x="4803480" y="5438880"/>
                <a:ext cx="263160" cy="155160"/>
                <a:chOff x="4803480" y="5438880"/>
                <a:chExt cx="263160" cy="155160"/>
              </a:xfrm>
            </p:grpSpPr>
            <p:sp>
              <p:nvSpPr>
                <p:cNvPr id="390" name="Oval 7"/>
                <p:cNvSpPr/>
                <p:nvPr/>
              </p:nvSpPr>
              <p:spPr>
                <a:xfrm flipH="1" rot="5400000">
                  <a:off x="4800240" y="5442120"/>
                  <a:ext cx="100080" cy="936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8"/>
                <p:cNvSpPr/>
                <p:nvPr/>
              </p:nvSpPr>
              <p:spPr>
                <a:xfrm flipH="1" rot="5400000">
                  <a:off x="4840560" y="5514840"/>
                  <a:ext cx="81720" cy="76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9"/>
                <p:cNvSpPr/>
                <p:nvPr/>
              </p:nvSpPr>
              <p:spPr>
                <a:xfrm flipH="1">
                  <a:off x="4911480" y="5491800"/>
                  <a:ext cx="155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Line 10"/>
              <p:cNvSpPr/>
              <p:nvPr/>
            </p:nvSpPr>
            <p:spPr>
              <a:xfrm>
                <a:off x="2611080" y="5999040"/>
                <a:ext cx="4323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1"/>
              <p:cNvSpPr/>
              <p:nvPr/>
            </p:nvSpPr>
            <p:spPr>
              <a:xfrm>
                <a:off x="2687040" y="6067440"/>
                <a:ext cx="4340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Group 12"/>
              <p:cNvGrpSpPr/>
              <p:nvPr/>
            </p:nvGrpSpPr>
            <p:grpSpPr>
              <a:xfrm>
                <a:off x="4979520" y="5195880"/>
                <a:ext cx="1050120" cy="629640"/>
                <a:chOff x="4979520" y="5195880"/>
                <a:chExt cx="1050120" cy="629640"/>
              </a:xfrm>
            </p:grpSpPr>
            <p:grpSp>
              <p:nvGrpSpPr>
                <p:cNvPr id="396" name="Group 13"/>
                <p:cNvGrpSpPr/>
                <p:nvPr/>
              </p:nvGrpSpPr>
              <p:grpSpPr>
                <a:xfrm>
                  <a:off x="5638680" y="5474160"/>
                  <a:ext cx="261720" cy="155160"/>
                  <a:chOff x="5638680" y="5474160"/>
                  <a:chExt cx="261720" cy="155160"/>
                </a:xfrm>
              </p:grpSpPr>
              <p:sp>
                <p:nvSpPr>
                  <p:cNvPr id="397" name="Oval 14"/>
                  <p:cNvSpPr/>
                  <p:nvPr/>
                </p:nvSpPr>
                <p:spPr>
                  <a:xfrm rot="16200000">
                    <a:off x="5803560" y="5477400"/>
                    <a:ext cx="100080" cy="93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Rectangle 15"/>
                  <p:cNvSpPr/>
                  <p:nvPr/>
                </p:nvSpPr>
                <p:spPr>
                  <a:xfrm rot="16200000">
                    <a:off x="5781600" y="5550480"/>
                    <a:ext cx="81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16"/>
                  <p:cNvSpPr/>
                  <p:nvPr/>
                </p:nvSpPr>
                <p:spPr>
                  <a:xfrm>
                    <a:off x="5638680" y="5527440"/>
                    <a:ext cx="1544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Group 17"/>
                <p:cNvGrpSpPr/>
                <p:nvPr/>
              </p:nvGrpSpPr>
              <p:grpSpPr>
                <a:xfrm>
                  <a:off x="5083200" y="5195880"/>
                  <a:ext cx="591840" cy="629640"/>
                  <a:chOff x="5083200" y="5195880"/>
                  <a:chExt cx="591840" cy="629640"/>
                </a:xfrm>
              </p:grpSpPr>
              <p:sp>
                <p:nvSpPr>
                  <p:cNvPr id="401" name="Oval 18"/>
                  <p:cNvSpPr/>
                  <p:nvPr/>
                </p:nvSpPr>
                <p:spPr>
                  <a:xfrm flipH="1" rot="16200000">
                    <a:off x="5064120" y="5214600"/>
                    <a:ext cx="629640" cy="59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Oval 19"/>
                  <p:cNvSpPr/>
                  <p:nvPr/>
                </p:nvSpPr>
                <p:spPr>
                  <a:xfrm flipH="1" rot="16200000">
                    <a:off x="5124960" y="5271480"/>
                    <a:ext cx="505800" cy="475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3" name="Rectangle 20"/>
                <p:cNvSpPr/>
                <p:nvPr/>
              </p:nvSpPr>
              <p:spPr>
                <a:xfrm flipH="1" rot="16200000">
                  <a:off x="5322960" y="5101200"/>
                  <a:ext cx="116280" cy="8035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Oval 21"/>
                <p:cNvSpPr/>
                <p:nvPr/>
              </p:nvSpPr>
              <p:spPr>
                <a:xfrm flipH="1" rot="16200000">
                  <a:off x="5370480" y="5497560"/>
                  <a:ext cx="40320" cy="3816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"/>
                <p:cNvSpPr/>
                <p:nvPr/>
              </p:nvSpPr>
              <p:spPr>
                <a:xfrm flipH="1">
                  <a:off x="5809320" y="5496480"/>
                  <a:ext cx="220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Rectangle 23"/>
              <p:cNvSpPr/>
              <p:nvPr/>
            </p:nvSpPr>
            <p:spPr>
              <a:xfrm>
                <a:off x="6049440" y="5057640"/>
                <a:ext cx="525240" cy="939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24"/>
              <p:cNvSpPr/>
              <p:nvPr/>
            </p:nvSpPr>
            <p:spPr>
              <a:xfrm>
                <a:off x="6192360" y="5236920"/>
                <a:ext cx="44100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25"/>
              <p:cNvSpPr/>
              <p:nvPr/>
            </p:nvSpPr>
            <p:spPr>
              <a:xfrm flipV="1">
                <a:off x="2563560" y="5033880"/>
                <a:ext cx="0" cy="9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26"/>
              <p:cNvSpPr/>
              <p:nvPr/>
            </p:nvSpPr>
            <p:spPr>
              <a:xfrm flipV="1">
                <a:off x="2631600" y="5104800"/>
                <a:ext cx="0" cy="90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27"/>
              <p:cNvSpPr/>
              <p:nvPr/>
            </p:nvSpPr>
            <p:spPr>
              <a:xfrm flipH="1">
                <a:off x="4425480" y="5198760"/>
                <a:ext cx="988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Group 28"/>
              <p:cNvGrpSpPr/>
              <p:nvPr/>
            </p:nvGrpSpPr>
            <p:grpSpPr>
              <a:xfrm>
                <a:off x="3928680" y="5746680"/>
                <a:ext cx="661320" cy="166320"/>
                <a:chOff x="3928680" y="5746680"/>
                <a:chExt cx="661320" cy="166320"/>
              </a:xfrm>
            </p:grpSpPr>
            <p:sp>
              <p:nvSpPr>
                <p:cNvPr id="412" name="Rectangle 29"/>
                <p:cNvSpPr/>
                <p:nvPr/>
              </p:nvSpPr>
              <p:spPr>
                <a:xfrm>
                  <a:off x="3928680" y="5746680"/>
                  <a:ext cx="661320" cy="1663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0"/>
                <p:cNvSpPr/>
                <p:nvPr/>
              </p:nvSpPr>
              <p:spPr>
                <a:xfrm>
                  <a:off x="3963600" y="5799600"/>
                  <a:ext cx="582840" cy="50760"/>
                </a:xfrm>
                <a:custGeom>
                  <a:avLst/>
                  <a:gdLst/>
                  <a:ahLst/>
                  <a:rect l="l" t="t" r="r" b="b"/>
                  <a:pathLst>
                    <a:path w="1680" h="280">
                      <a:moveTo>
                        <a:pt x="0" y="140"/>
                      </a:moveTo>
                      <a:lnTo>
                        <a:pt x="80" y="0"/>
                      </a:lnTo>
                      <a:lnTo>
                        <a:pt x="160" y="280"/>
                      </a:lnTo>
                      <a:lnTo>
                        <a:pt x="240" y="0"/>
                      </a:lnTo>
                      <a:lnTo>
                        <a:pt x="320" y="280"/>
                      </a:lnTo>
                      <a:lnTo>
                        <a:pt x="400" y="0"/>
                      </a:lnTo>
                      <a:lnTo>
                        <a:pt x="480" y="280"/>
                      </a:lnTo>
                      <a:lnTo>
                        <a:pt x="560" y="0"/>
                      </a:lnTo>
                      <a:lnTo>
                        <a:pt x="640" y="280"/>
                      </a:lnTo>
                      <a:lnTo>
                        <a:pt x="720" y="0"/>
                      </a:lnTo>
                      <a:lnTo>
                        <a:pt x="800" y="280"/>
                      </a:lnTo>
                      <a:lnTo>
                        <a:pt x="880" y="0"/>
                      </a:lnTo>
                      <a:lnTo>
                        <a:pt x="960" y="280"/>
                      </a:lnTo>
                      <a:lnTo>
                        <a:pt x="1040" y="0"/>
                      </a:lnTo>
                      <a:lnTo>
                        <a:pt x="1120" y="280"/>
                      </a:lnTo>
                      <a:lnTo>
                        <a:pt x="1200" y="0"/>
                      </a:lnTo>
                      <a:lnTo>
                        <a:pt x="1280" y="280"/>
                      </a:lnTo>
                      <a:lnTo>
                        <a:pt x="1360" y="0"/>
                      </a:lnTo>
                      <a:lnTo>
                        <a:pt x="1440" y="280"/>
                      </a:lnTo>
                      <a:lnTo>
                        <a:pt x="1520" y="0"/>
                      </a:lnTo>
                      <a:lnTo>
                        <a:pt x="1600" y="280"/>
                      </a:lnTo>
                      <a:lnTo>
                        <a:pt x="1680" y="14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31"/>
              <p:cNvSpPr/>
              <p:nvPr/>
            </p:nvSpPr>
            <p:spPr>
              <a:xfrm>
                <a:off x="4322160" y="4770360"/>
                <a:ext cx="358560" cy="51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5" name="Group 32"/>
              <p:cNvGrpSpPr/>
              <p:nvPr/>
            </p:nvGrpSpPr>
            <p:grpSpPr>
              <a:xfrm>
                <a:off x="2719080" y="5195880"/>
                <a:ext cx="1096200" cy="629640"/>
                <a:chOff x="2719080" y="5195880"/>
                <a:chExt cx="1096200" cy="629640"/>
              </a:xfrm>
            </p:grpSpPr>
            <p:grpSp>
              <p:nvGrpSpPr>
                <p:cNvPr id="416" name="Group 33"/>
                <p:cNvGrpSpPr/>
                <p:nvPr/>
              </p:nvGrpSpPr>
              <p:grpSpPr>
                <a:xfrm>
                  <a:off x="2719080" y="5439960"/>
                  <a:ext cx="262800" cy="154440"/>
                  <a:chOff x="2719080" y="5439960"/>
                  <a:chExt cx="262800" cy="154440"/>
                </a:xfrm>
              </p:grpSpPr>
              <p:sp>
                <p:nvSpPr>
                  <p:cNvPr id="417" name="Oval 34"/>
                  <p:cNvSpPr/>
                  <p:nvPr/>
                </p:nvSpPr>
                <p:spPr>
                  <a:xfrm flipH="1" rot="5400000">
                    <a:off x="2715840" y="5442840"/>
                    <a:ext cx="9972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Rectangle 35"/>
                  <p:cNvSpPr/>
                  <p:nvPr/>
                </p:nvSpPr>
                <p:spPr>
                  <a:xfrm flipH="1" rot="5400000">
                    <a:off x="2756880" y="5515560"/>
                    <a:ext cx="8136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Line 36"/>
                  <p:cNvSpPr/>
                  <p:nvPr/>
                </p:nvSpPr>
                <p:spPr>
                  <a:xfrm flipH="1">
                    <a:off x="2827080" y="5492520"/>
                    <a:ext cx="154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Group 37"/>
                <p:cNvGrpSpPr/>
                <p:nvPr/>
              </p:nvGrpSpPr>
              <p:grpSpPr>
                <a:xfrm>
                  <a:off x="3552480" y="5474160"/>
                  <a:ext cx="262800" cy="155160"/>
                  <a:chOff x="3552480" y="5474160"/>
                  <a:chExt cx="262800" cy="155160"/>
                </a:xfrm>
              </p:grpSpPr>
              <p:sp>
                <p:nvSpPr>
                  <p:cNvPr id="421" name="Oval 38"/>
                  <p:cNvSpPr/>
                  <p:nvPr/>
                </p:nvSpPr>
                <p:spPr>
                  <a:xfrm rot="16200000">
                    <a:off x="3718440" y="5477400"/>
                    <a:ext cx="10008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Rectangle 39"/>
                  <p:cNvSpPr/>
                  <p:nvPr/>
                </p:nvSpPr>
                <p:spPr>
                  <a:xfrm rot="16200000">
                    <a:off x="3695760" y="5550120"/>
                    <a:ext cx="817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40"/>
                  <p:cNvSpPr/>
                  <p:nvPr/>
                </p:nvSpPr>
                <p:spPr>
                  <a:xfrm>
                    <a:off x="3552480" y="5527440"/>
                    <a:ext cx="154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Group 41"/>
                <p:cNvGrpSpPr/>
                <p:nvPr/>
              </p:nvGrpSpPr>
              <p:grpSpPr>
                <a:xfrm>
                  <a:off x="2995560" y="5195880"/>
                  <a:ext cx="593640" cy="629640"/>
                  <a:chOff x="2995560" y="5195880"/>
                  <a:chExt cx="593640" cy="629640"/>
                </a:xfrm>
              </p:grpSpPr>
              <p:sp>
                <p:nvSpPr>
                  <p:cNvPr id="425" name="Oval 42"/>
                  <p:cNvSpPr/>
                  <p:nvPr/>
                </p:nvSpPr>
                <p:spPr>
                  <a:xfrm flipH="1" rot="16200000">
                    <a:off x="2977200" y="5213880"/>
                    <a:ext cx="629640" cy="593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Oval 43"/>
                  <p:cNvSpPr/>
                  <p:nvPr/>
                </p:nvSpPr>
                <p:spPr>
                  <a:xfrm flipH="1" rot="16200000">
                    <a:off x="3038040" y="5270760"/>
                    <a:ext cx="505800" cy="47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7" name="Rectangle 44"/>
                <p:cNvSpPr/>
                <p:nvPr/>
              </p:nvSpPr>
              <p:spPr>
                <a:xfrm flipH="1" rot="16200000">
                  <a:off x="3234960" y="5100480"/>
                  <a:ext cx="116280" cy="8053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Oval 45"/>
                <p:cNvSpPr/>
                <p:nvPr/>
              </p:nvSpPr>
              <p:spPr>
                <a:xfrm flipH="1" rot="16200000">
                  <a:off x="3283560" y="5497560"/>
                  <a:ext cx="40320" cy="3816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Line 46"/>
              <p:cNvSpPr/>
              <p:nvPr/>
            </p:nvSpPr>
            <p:spPr>
              <a:xfrm>
                <a:off x="2626920" y="6054480"/>
                <a:ext cx="4077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47"/>
              <p:cNvSpPr/>
              <p:nvPr/>
            </p:nvSpPr>
            <p:spPr>
              <a:xfrm flipH="1" flipV="1">
                <a:off x="3277440" y="5223960"/>
                <a:ext cx="153612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48"/>
              <p:cNvSpPr/>
              <p:nvPr/>
            </p:nvSpPr>
            <p:spPr>
              <a:xfrm>
                <a:off x="3303000" y="5837040"/>
                <a:ext cx="216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49"/>
              <p:cNvSpPr/>
              <p:nvPr/>
            </p:nvSpPr>
            <p:spPr>
              <a:xfrm flipV="1">
                <a:off x="2625120" y="5445000"/>
                <a:ext cx="182160" cy="3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Text Box 51"/>
          <p:cNvSpPr/>
          <p:nvPr/>
        </p:nvSpPr>
        <p:spPr>
          <a:xfrm>
            <a:off x="4959360" y="3033720"/>
            <a:ext cx="87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2"/>
          <p:cNvSpPr/>
          <p:nvPr/>
        </p:nvSpPr>
        <p:spPr>
          <a:xfrm>
            <a:off x="5921280" y="3529080"/>
            <a:ext cx="10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53"/>
          <p:cNvSpPr/>
          <p:nvPr/>
        </p:nvSpPr>
        <p:spPr>
          <a:xfrm>
            <a:off x="5362560" y="4037040"/>
            <a:ext cx="107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431640" y="1089000"/>
            <a:ext cx="777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如图所示的滑轮组将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物体匀速提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 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所用的拉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所做的有用功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机械效率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当改为提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重物时，该滑轮组的机械效率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（忽略滑轮重和绳与轴的摩擦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468360" y="2097000"/>
            <a:ext cx="13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4211640" y="2133720"/>
            <a:ext cx="11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6335640" y="263376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85.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7"/>
          <p:cNvGrpSpPr/>
          <p:nvPr/>
        </p:nvGrpSpPr>
        <p:grpSpPr>
          <a:xfrm>
            <a:off x="6300720" y="3222360"/>
            <a:ext cx="989640" cy="3014640"/>
            <a:chOff x="6300720" y="3222360"/>
            <a:chExt cx="989640" cy="3014640"/>
          </a:xfrm>
        </p:grpSpPr>
        <p:grpSp>
          <p:nvGrpSpPr>
            <p:cNvPr id="441" name="Group 8"/>
            <p:cNvGrpSpPr/>
            <p:nvPr/>
          </p:nvGrpSpPr>
          <p:grpSpPr>
            <a:xfrm>
              <a:off x="6346440" y="3222360"/>
              <a:ext cx="943920" cy="3014640"/>
              <a:chOff x="6346440" y="3222360"/>
              <a:chExt cx="943920" cy="3014640"/>
            </a:xfrm>
          </p:grpSpPr>
          <p:grpSp>
            <p:nvGrpSpPr>
              <p:cNvPr id="442" name="xjhlx8"/>
              <p:cNvGrpSpPr/>
              <p:nvPr/>
            </p:nvGrpSpPr>
            <p:grpSpPr>
              <a:xfrm>
                <a:off x="6543360" y="3237120"/>
                <a:ext cx="486000" cy="644040"/>
                <a:chOff x="6543360" y="3237120"/>
                <a:chExt cx="486000" cy="644040"/>
              </a:xfrm>
            </p:grpSpPr>
            <p:grpSp>
              <p:nvGrpSpPr>
                <p:cNvPr id="443" name="Group 146"/>
                <p:cNvGrpSpPr/>
                <p:nvPr/>
              </p:nvGrpSpPr>
              <p:grpSpPr>
                <a:xfrm>
                  <a:off x="6543360" y="3421440"/>
                  <a:ext cx="486000" cy="459720"/>
                  <a:chOff x="6543360" y="3421440"/>
                  <a:chExt cx="486000" cy="459720"/>
                </a:xfrm>
              </p:grpSpPr>
              <p:sp>
                <p:nvSpPr>
                  <p:cNvPr id="444" name="Oval 147"/>
                  <p:cNvSpPr/>
                  <p:nvPr/>
                </p:nvSpPr>
                <p:spPr>
                  <a:xfrm flipH="1" flipV="1" rot="16200000">
                    <a:off x="6556320" y="3407760"/>
                    <a:ext cx="459720" cy="48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f8f8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148"/>
                  <p:cNvSpPr/>
                  <p:nvPr/>
                </p:nvSpPr>
                <p:spPr>
                  <a:xfrm flipH="1" flipV="1" rot="16200000">
                    <a:off x="6620040" y="3475440"/>
                    <a:ext cx="331920" cy="35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149"/>
                  <p:cNvSpPr/>
                  <p:nvPr/>
                </p:nvSpPr>
                <p:spPr>
                  <a:xfrm flipH="1" flipV="1" rot="16200000">
                    <a:off x="6684120" y="3542400"/>
                    <a:ext cx="204120" cy="21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Oval 150"/>
                  <p:cNvSpPr/>
                  <p:nvPr/>
                </p:nvSpPr>
                <p:spPr>
                  <a:xfrm flipH="1" flipV="1" rot="16200000">
                    <a:off x="6747840" y="3610440"/>
                    <a:ext cx="76680" cy="810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8" name="Rectangle 151"/>
                <p:cNvSpPr/>
                <p:nvPr/>
              </p:nvSpPr>
              <p:spPr>
                <a:xfrm flipH="1" flipV="1" rot="16200000">
                  <a:off x="6566040" y="3416400"/>
                  <a:ext cx="439920" cy="81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9" name="Line 164"/>
              <p:cNvSpPr/>
              <p:nvPr/>
            </p:nvSpPr>
            <p:spPr>
              <a:xfrm>
                <a:off x="6527520" y="4546800"/>
                <a:ext cx="1800" cy="67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165"/>
              <p:cNvSpPr/>
              <p:nvPr/>
            </p:nvSpPr>
            <p:spPr>
              <a:xfrm flipH="1">
                <a:off x="7009920" y="3668760"/>
                <a:ext cx="11160" cy="14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166"/>
              <p:cNvSpPr/>
              <p:nvPr/>
            </p:nvSpPr>
            <p:spPr>
              <a:xfrm>
                <a:off x="6551640" y="3714840"/>
                <a:ext cx="291960" cy="1144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Group 19"/>
              <p:cNvGrpSpPr/>
              <p:nvPr/>
            </p:nvGrpSpPr>
            <p:grpSpPr>
              <a:xfrm>
                <a:off x="6570360" y="5615280"/>
                <a:ext cx="495000" cy="621720"/>
                <a:chOff x="6570360" y="5615280"/>
                <a:chExt cx="495000" cy="621720"/>
              </a:xfrm>
            </p:grpSpPr>
            <p:sp>
              <p:nvSpPr>
                <p:cNvPr id="453" name="Freeform 169"/>
                <p:cNvSpPr/>
                <p:nvPr/>
              </p:nvSpPr>
              <p:spPr>
                <a:xfrm flipH="1" flipV="1">
                  <a:off x="6732360" y="5615280"/>
                  <a:ext cx="117000" cy="133200"/>
                </a:xfrm>
                <a:custGeom>
                  <a:avLst/>
                  <a:gdLst/>
                  <a:ahLst/>
                  <a:rect l="l" t="t" r="r" b="b"/>
                  <a:pathLst>
                    <a:path w="2020" h="2594">
                      <a:moveTo>
                        <a:pt x="472" y="15"/>
                      </a:moveTo>
                      <a:cubicBezTo>
                        <a:pt x="472" y="107"/>
                        <a:pt x="477" y="387"/>
                        <a:pt x="472" y="552"/>
                      </a:cubicBezTo>
                      <a:cubicBezTo>
                        <a:pt x="467" y="717"/>
                        <a:pt x="480" y="887"/>
                        <a:pt x="442" y="1005"/>
                      </a:cubicBezTo>
                      <a:cubicBezTo>
                        <a:pt x="404" y="1123"/>
                        <a:pt x="302" y="1180"/>
                        <a:pt x="247" y="1260"/>
                      </a:cubicBezTo>
                      <a:cubicBezTo>
                        <a:pt x="192" y="1340"/>
                        <a:pt x="152" y="1398"/>
                        <a:pt x="112" y="1488"/>
                      </a:cubicBezTo>
                      <a:cubicBezTo>
                        <a:pt x="72" y="1578"/>
                        <a:pt x="14" y="1706"/>
                        <a:pt x="7" y="1800"/>
                      </a:cubicBezTo>
                      <a:cubicBezTo>
                        <a:pt x="0" y="1894"/>
                        <a:pt x="25" y="1968"/>
                        <a:pt x="67" y="2055"/>
                      </a:cubicBezTo>
                      <a:cubicBezTo>
                        <a:pt x="109" y="2142"/>
                        <a:pt x="165" y="2245"/>
                        <a:pt x="262" y="2325"/>
                      </a:cubicBezTo>
                      <a:cubicBezTo>
                        <a:pt x="359" y="2405"/>
                        <a:pt x="515" y="2498"/>
                        <a:pt x="652" y="2535"/>
                      </a:cubicBezTo>
                      <a:cubicBezTo>
                        <a:pt x="789" y="2572"/>
                        <a:pt x="937" y="2594"/>
                        <a:pt x="1087" y="2550"/>
                      </a:cubicBezTo>
                      <a:cubicBezTo>
                        <a:pt x="1237" y="2506"/>
                        <a:pt x="1440" y="2366"/>
                        <a:pt x="1552" y="2268"/>
                      </a:cubicBezTo>
                      <a:cubicBezTo>
                        <a:pt x="1664" y="2170"/>
                        <a:pt x="1702" y="2069"/>
                        <a:pt x="1762" y="1965"/>
                      </a:cubicBezTo>
                      <a:cubicBezTo>
                        <a:pt x="1822" y="1861"/>
                        <a:pt x="1872" y="1759"/>
                        <a:pt x="1912" y="1644"/>
                      </a:cubicBezTo>
                      <a:cubicBezTo>
                        <a:pt x="1952" y="1529"/>
                        <a:pt x="2020" y="1309"/>
                        <a:pt x="2002" y="1275"/>
                      </a:cubicBezTo>
                      <a:cubicBezTo>
                        <a:pt x="1984" y="1241"/>
                        <a:pt x="1874" y="1355"/>
                        <a:pt x="1807" y="1440"/>
                      </a:cubicBezTo>
                      <a:cubicBezTo>
                        <a:pt x="1740" y="1525"/>
                        <a:pt x="1669" y="1690"/>
                        <a:pt x="1597" y="1785"/>
                      </a:cubicBezTo>
                      <a:cubicBezTo>
                        <a:pt x="1525" y="1880"/>
                        <a:pt x="1442" y="1953"/>
                        <a:pt x="1372" y="2010"/>
                      </a:cubicBezTo>
                      <a:cubicBezTo>
                        <a:pt x="1302" y="2067"/>
                        <a:pt x="1257" y="2113"/>
                        <a:pt x="1177" y="2130"/>
                      </a:cubicBezTo>
                      <a:cubicBezTo>
                        <a:pt x="1097" y="2147"/>
                        <a:pt x="982" y="2147"/>
                        <a:pt x="892" y="2115"/>
                      </a:cubicBezTo>
                      <a:cubicBezTo>
                        <a:pt x="802" y="2083"/>
                        <a:pt x="677" y="2022"/>
                        <a:pt x="637" y="1935"/>
                      </a:cubicBezTo>
                      <a:cubicBezTo>
                        <a:pt x="597" y="1848"/>
                        <a:pt x="612" y="1702"/>
                        <a:pt x="652" y="1590"/>
                      </a:cubicBezTo>
                      <a:cubicBezTo>
                        <a:pt x="692" y="1478"/>
                        <a:pt x="817" y="1355"/>
                        <a:pt x="877" y="1260"/>
                      </a:cubicBezTo>
                      <a:cubicBezTo>
                        <a:pt x="937" y="1165"/>
                        <a:pt x="990" y="1112"/>
                        <a:pt x="1012" y="1020"/>
                      </a:cubicBezTo>
                      <a:cubicBezTo>
                        <a:pt x="1034" y="928"/>
                        <a:pt x="1012" y="786"/>
                        <a:pt x="1012" y="708"/>
                      </a:cubicBezTo>
                      <a:cubicBezTo>
                        <a:pt x="1012" y="630"/>
                        <a:pt x="1012" y="670"/>
                        <a:pt x="1012" y="552"/>
                      </a:cubicBezTo>
                      <a:cubicBezTo>
                        <a:pt x="1012" y="434"/>
                        <a:pt x="1012" y="115"/>
                        <a:pt x="1012" y="0"/>
                      </a:cubicBezTo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Rectangle 170"/>
                <p:cNvSpPr/>
                <p:nvPr/>
              </p:nvSpPr>
              <p:spPr>
                <a:xfrm>
                  <a:off x="6570360" y="5757480"/>
                  <a:ext cx="495000" cy="479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b0b0"/>
                    </a:gs>
                    <a:gs pos="50000">
                      <a:srgbClr val="ffffff"/>
                    </a:gs>
                    <a:gs pos="100000">
                      <a:srgbClr val="b0b0b0"/>
                    </a:gs>
                  </a:gsLst>
                  <a:lin ang="0"/>
                </a:gra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5" name="Group 175"/>
              <p:cNvGrpSpPr/>
              <p:nvPr/>
            </p:nvGrpSpPr>
            <p:grpSpPr>
              <a:xfrm>
                <a:off x="6346440" y="3222360"/>
                <a:ext cx="943920" cy="50760"/>
                <a:chOff x="6346440" y="3222360"/>
                <a:chExt cx="943920" cy="50760"/>
              </a:xfrm>
            </p:grpSpPr>
            <p:sp>
              <p:nvSpPr>
                <p:cNvPr id="456" name="Line 176"/>
                <p:cNvSpPr/>
                <p:nvPr/>
              </p:nvSpPr>
              <p:spPr>
                <a:xfrm flipH="1" flipV="1">
                  <a:off x="6346440" y="3222360"/>
                  <a:ext cx="15660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177"/>
                <p:cNvSpPr/>
                <p:nvPr/>
              </p:nvSpPr>
              <p:spPr>
                <a:xfrm flipH="1" flipV="1">
                  <a:off x="6503040" y="3222360"/>
                  <a:ext cx="15804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78"/>
                <p:cNvSpPr/>
                <p:nvPr/>
              </p:nvSpPr>
              <p:spPr>
                <a:xfrm flipH="1" flipV="1">
                  <a:off x="6661440" y="3222360"/>
                  <a:ext cx="15696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79"/>
                <p:cNvSpPr/>
                <p:nvPr/>
              </p:nvSpPr>
              <p:spPr>
                <a:xfrm flipH="1" flipV="1">
                  <a:off x="6818400" y="3222360"/>
                  <a:ext cx="15660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180"/>
                <p:cNvSpPr/>
                <p:nvPr/>
              </p:nvSpPr>
              <p:spPr>
                <a:xfrm flipH="1" flipV="1">
                  <a:off x="6975360" y="3222360"/>
                  <a:ext cx="15660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81"/>
                <p:cNvSpPr/>
                <p:nvPr/>
              </p:nvSpPr>
              <p:spPr>
                <a:xfrm flipH="1" flipV="1">
                  <a:off x="7132320" y="3222360"/>
                  <a:ext cx="15804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182"/>
                <p:cNvSpPr/>
                <p:nvPr/>
              </p:nvSpPr>
              <p:spPr>
                <a:xfrm>
                  <a:off x="6376680" y="3273120"/>
                  <a:ext cx="912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30"/>
              <p:cNvGrpSpPr/>
              <p:nvPr/>
            </p:nvGrpSpPr>
            <p:grpSpPr>
              <a:xfrm>
                <a:off x="6527520" y="4647960"/>
                <a:ext cx="482400" cy="1039680"/>
                <a:chOff x="6527520" y="4647960"/>
                <a:chExt cx="482400" cy="1039680"/>
              </a:xfrm>
            </p:grpSpPr>
            <p:grpSp>
              <p:nvGrpSpPr>
                <p:cNvPr id="464" name="xjhlx12"/>
                <p:cNvGrpSpPr/>
                <p:nvPr/>
              </p:nvGrpSpPr>
              <p:grpSpPr>
                <a:xfrm>
                  <a:off x="6527520" y="4946400"/>
                  <a:ext cx="461880" cy="741240"/>
                  <a:chOff x="6527520" y="4946400"/>
                  <a:chExt cx="461880" cy="741240"/>
                </a:xfrm>
              </p:grpSpPr>
              <p:grpSp>
                <p:nvGrpSpPr>
                  <p:cNvPr id="465" name="Group 153"/>
                  <p:cNvGrpSpPr/>
                  <p:nvPr/>
                </p:nvGrpSpPr>
                <p:grpSpPr>
                  <a:xfrm>
                    <a:off x="6527520" y="4946400"/>
                    <a:ext cx="461880" cy="435240"/>
                    <a:chOff x="6527520" y="4946400"/>
                    <a:chExt cx="461880" cy="435240"/>
                  </a:xfrm>
                </p:grpSpPr>
                <p:sp>
                  <p:nvSpPr>
                    <p:cNvPr id="466" name="Oval 154"/>
                    <p:cNvSpPr/>
                    <p:nvPr/>
                  </p:nvSpPr>
                  <p:spPr>
                    <a:xfrm>
                      <a:off x="6527520" y="4946400"/>
                      <a:ext cx="461880" cy="435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f8f8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Oval 155"/>
                    <p:cNvSpPr/>
                    <p:nvPr/>
                  </p:nvSpPr>
                  <p:spPr>
                    <a:xfrm>
                      <a:off x="6591600" y="5006880"/>
                      <a:ext cx="333720" cy="314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27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Oval 156"/>
                    <p:cNvSpPr/>
                    <p:nvPr/>
                  </p:nvSpPr>
                  <p:spPr>
                    <a:xfrm>
                      <a:off x="6655680" y="5067360"/>
                      <a:ext cx="205200" cy="19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969696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Oval 157"/>
                    <p:cNvSpPr/>
                    <p:nvPr/>
                  </p:nvSpPr>
                  <p:spPr>
                    <a:xfrm>
                      <a:off x="6719760" y="5127840"/>
                      <a:ext cx="77040" cy="72360"/>
                    </a:xfrm>
                    <a:prstGeom prst="ellipse">
                      <a:avLst/>
                    </a:prstGeom>
                    <a:solidFill>
                      <a:srgbClr val="333333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Group 158"/>
                  <p:cNvGrpSpPr/>
                  <p:nvPr/>
                </p:nvGrpSpPr>
                <p:grpSpPr>
                  <a:xfrm>
                    <a:off x="6613920" y="5119920"/>
                    <a:ext cx="293400" cy="567720"/>
                    <a:chOff x="6613920" y="5119920"/>
                    <a:chExt cx="293400" cy="567720"/>
                  </a:xfrm>
                </p:grpSpPr>
                <p:sp>
                  <p:nvSpPr>
                    <p:cNvPr id="471" name="Freeform 159"/>
                    <p:cNvSpPr/>
                    <p:nvPr/>
                  </p:nvSpPr>
                  <p:spPr>
                    <a:xfrm>
                      <a:off x="6687720" y="5441760"/>
                      <a:ext cx="203760" cy="24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0" h="2594">
                          <a:moveTo>
                            <a:pt x="472" y="15"/>
                          </a:moveTo>
                          <a:cubicBezTo>
                            <a:pt x="472" y="107"/>
                            <a:pt x="477" y="387"/>
                            <a:pt x="472" y="552"/>
                          </a:cubicBezTo>
                          <a:cubicBezTo>
                            <a:pt x="467" y="717"/>
                            <a:pt x="480" y="887"/>
                            <a:pt x="442" y="1005"/>
                          </a:cubicBezTo>
                          <a:cubicBezTo>
                            <a:pt x="404" y="1123"/>
                            <a:pt x="302" y="1180"/>
                            <a:pt x="247" y="1260"/>
                          </a:cubicBezTo>
                          <a:cubicBezTo>
                            <a:pt x="192" y="1340"/>
                            <a:pt x="152" y="1398"/>
                            <a:pt x="112" y="1488"/>
                          </a:cubicBezTo>
                          <a:cubicBezTo>
                            <a:pt x="72" y="1578"/>
                            <a:pt x="14" y="1706"/>
                            <a:pt x="7" y="1800"/>
                          </a:cubicBezTo>
                          <a:cubicBezTo>
                            <a:pt x="0" y="1894"/>
                            <a:pt x="25" y="1968"/>
                            <a:pt x="67" y="2055"/>
                          </a:cubicBezTo>
                          <a:cubicBezTo>
                            <a:pt x="109" y="2142"/>
                            <a:pt x="165" y="2245"/>
                            <a:pt x="262" y="2325"/>
                          </a:cubicBezTo>
                          <a:cubicBezTo>
                            <a:pt x="359" y="2405"/>
                            <a:pt x="515" y="2498"/>
                            <a:pt x="652" y="2535"/>
                          </a:cubicBezTo>
                          <a:cubicBezTo>
                            <a:pt x="789" y="2572"/>
                            <a:pt x="937" y="2594"/>
                            <a:pt x="1087" y="2550"/>
                          </a:cubicBezTo>
                          <a:cubicBezTo>
                            <a:pt x="1237" y="2506"/>
                            <a:pt x="1440" y="2366"/>
                            <a:pt x="1552" y="2268"/>
                          </a:cubicBezTo>
                          <a:cubicBezTo>
                            <a:pt x="1664" y="2170"/>
                            <a:pt x="1702" y="2069"/>
                            <a:pt x="1762" y="1965"/>
                          </a:cubicBezTo>
                          <a:cubicBezTo>
                            <a:pt x="1822" y="1861"/>
                            <a:pt x="1872" y="1759"/>
                            <a:pt x="1912" y="1644"/>
                          </a:cubicBezTo>
                          <a:cubicBezTo>
                            <a:pt x="1952" y="1529"/>
                            <a:pt x="2020" y="1309"/>
                            <a:pt x="2002" y="1275"/>
                          </a:cubicBezTo>
                          <a:cubicBezTo>
                            <a:pt x="1984" y="1241"/>
                            <a:pt x="1874" y="1355"/>
                            <a:pt x="1807" y="1440"/>
                          </a:cubicBezTo>
                          <a:cubicBezTo>
                            <a:pt x="1740" y="1525"/>
                            <a:pt x="1669" y="1690"/>
                            <a:pt x="1597" y="1785"/>
                          </a:cubicBezTo>
                          <a:cubicBezTo>
                            <a:pt x="1525" y="1880"/>
                            <a:pt x="1442" y="1953"/>
                            <a:pt x="1372" y="2010"/>
                          </a:cubicBezTo>
                          <a:cubicBezTo>
                            <a:pt x="1302" y="2067"/>
                            <a:pt x="1257" y="2113"/>
                            <a:pt x="1177" y="2130"/>
                          </a:cubicBezTo>
                          <a:cubicBezTo>
                            <a:pt x="1097" y="2147"/>
                            <a:pt x="982" y="2147"/>
                            <a:pt x="892" y="2115"/>
                          </a:cubicBezTo>
                          <a:cubicBezTo>
                            <a:pt x="802" y="2083"/>
                            <a:pt x="677" y="2022"/>
                            <a:pt x="637" y="1935"/>
                          </a:cubicBezTo>
                          <a:cubicBezTo>
                            <a:pt x="597" y="1848"/>
                            <a:pt x="612" y="1702"/>
                            <a:pt x="652" y="1590"/>
                          </a:cubicBezTo>
                          <a:cubicBezTo>
                            <a:pt x="692" y="1478"/>
                            <a:pt x="817" y="1355"/>
                            <a:pt x="877" y="1260"/>
                          </a:cubicBezTo>
                          <a:cubicBezTo>
                            <a:pt x="937" y="1165"/>
                            <a:pt x="990" y="1112"/>
                            <a:pt x="1012" y="1020"/>
                          </a:cubicBezTo>
                          <a:cubicBezTo>
                            <a:pt x="1034" y="928"/>
                            <a:pt x="1012" y="786"/>
                            <a:pt x="1012" y="708"/>
                          </a:cubicBezTo>
                          <a:cubicBezTo>
                            <a:pt x="1012" y="630"/>
                            <a:pt x="1012" y="670"/>
                            <a:pt x="1012" y="552"/>
                          </a:cubicBezTo>
                          <a:cubicBezTo>
                            <a:pt x="1012" y="434"/>
                            <a:pt x="1012" y="115"/>
                            <a:pt x="1012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72" name="Group 160"/>
                    <p:cNvGrpSpPr/>
                    <p:nvPr/>
                  </p:nvGrpSpPr>
                  <p:grpSpPr>
                    <a:xfrm>
                      <a:off x="6613920" y="5119920"/>
                      <a:ext cx="293400" cy="356760"/>
                      <a:chOff x="6613920" y="5119920"/>
                      <a:chExt cx="293400" cy="356760"/>
                    </a:xfrm>
                  </p:grpSpPr>
                  <p:sp>
                    <p:nvSpPr>
                      <p:cNvPr id="473" name="Freeform 161"/>
                      <p:cNvSpPr/>
                      <p:nvPr/>
                    </p:nvSpPr>
                    <p:spPr>
                      <a:xfrm>
                        <a:off x="6613920" y="5119920"/>
                        <a:ext cx="293400" cy="35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5" h="1180">
                            <a:moveTo>
                              <a:pt x="0" y="0"/>
                            </a:moveTo>
                            <a:lnTo>
                              <a:pt x="915" y="15"/>
                            </a:lnTo>
                            <a:lnTo>
                              <a:pt x="630" y="1180"/>
                            </a:lnTo>
                            <a:lnTo>
                              <a:pt x="270" y="115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969696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" name="Oval 162"/>
                      <p:cNvSpPr/>
                      <p:nvPr/>
                    </p:nvSpPr>
                    <p:spPr>
                      <a:xfrm>
                        <a:off x="6719760" y="5135040"/>
                        <a:ext cx="68760" cy="64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000000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" name="Oval 163"/>
                      <p:cNvSpPr/>
                      <p:nvPr/>
                    </p:nvSpPr>
                    <p:spPr>
                      <a:xfrm>
                        <a:off x="6726240" y="5381640"/>
                        <a:ext cx="68760" cy="64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000000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76" name="Group 184"/>
                <p:cNvGrpSpPr/>
                <p:nvPr/>
              </p:nvGrpSpPr>
              <p:grpSpPr>
                <a:xfrm>
                  <a:off x="6548400" y="4954320"/>
                  <a:ext cx="461520" cy="435600"/>
                  <a:chOff x="6548400" y="4954320"/>
                  <a:chExt cx="461520" cy="435600"/>
                </a:xfrm>
              </p:grpSpPr>
              <p:sp>
                <p:nvSpPr>
                  <p:cNvPr id="477" name="Oval 185"/>
                  <p:cNvSpPr/>
                  <p:nvPr/>
                </p:nvSpPr>
                <p:spPr>
                  <a:xfrm flipV="1">
                    <a:off x="6548400" y="4954320"/>
                    <a:ext cx="461520" cy="435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f8f8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186"/>
                  <p:cNvSpPr/>
                  <p:nvPr/>
                </p:nvSpPr>
                <p:spPr>
                  <a:xfrm flipV="1">
                    <a:off x="6612480" y="5014800"/>
                    <a:ext cx="333360" cy="314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Oval 187"/>
                  <p:cNvSpPr/>
                  <p:nvPr/>
                </p:nvSpPr>
                <p:spPr>
                  <a:xfrm flipV="1">
                    <a:off x="6676560" y="5075280"/>
                    <a:ext cx="205200" cy="19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Oval 188"/>
                  <p:cNvSpPr/>
                  <p:nvPr/>
                </p:nvSpPr>
                <p:spPr>
                  <a:xfrm flipV="1">
                    <a:off x="6740640" y="5135760"/>
                    <a:ext cx="76680" cy="7236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1" name="Freeform 190"/>
                <p:cNvSpPr/>
                <p:nvPr/>
              </p:nvSpPr>
              <p:spPr>
                <a:xfrm flipV="1">
                  <a:off x="6708240" y="4647600"/>
                  <a:ext cx="202680" cy="245880"/>
                </a:xfrm>
                <a:custGeom>
                  <a:avLst/>
                  <a:gdLst/>
                  <a:ahLst/>
                  <a:rect l="l" t="t" r="r" b="b"/>
                  <a:pathLst>
                    <a:path w="2020" h="2594">
                      <a:moveTo>
                        <a:pt x="472" y="15"/>
                      </a:moveTo>
                      <a:cubicBezTo>
                        <a:pt x="472" y="107"/>
                        <a:pt x="477" y="387"/>
                        <a:pt x="472" y="552"/>
                      </a:cubicBezTo>
                      <a:cubicBezTo>
                        <a:pt x="467" y="717"/>
                        <a:pt x="480" y="887"/>
                        <a:pt x="442" y="1005"/>
                      </a:cubicBezTo>
                      <a:cubicBezTo>
                        <a:pt x="404" y="1123"/>
                        <a:pt x="302" y="1180"/>
                        <a:pt x="247" y="1260"/>
                      </a:cubicBezTo>
                      <a:cubicBezTo>
                        <a:pt x="192" y="1340"/>
                        <a:pt x="152" y="1398"/>
                        <a:pt x="112" y="1488"/>
                      </a:cubicBezTo>
                      <a:cubicBezTo>
                        <a:pt x="72" y="1578"/>
                        <a:pt x="14" y="1706"/>
                        <a:pt x="7" y="1800"/>
                      </a:cubicBezTo>
                      <a:cubicBezTo>
                        <a:pt x="0" y="1894"/>
                        <a:pt x="25" y="1968"/>
                        <a:pt x="67" y="2055"/>
                      </a:cubicBezTo>
                      <a:cubicBezTo>
                        <a:pt x="109" y="2142"/>
                        <a:pt x="165" y="2245"/>
                        <a:pt x="262" y="2325"/>
                      </a:cubicBezTo>
                      <a:cubicBezTo>
                        <a:pt x="359" y="2405"/>
                        <a:pt x="515" y="2498"/>
                        <a:pt x="652" y="2535"/>
                      </a:cubicBezTo>
                      <a:cubicBezTo>
                        <a:pt x="789" y="2572"/>
                        <a:pt x="937" y="2594"/>
                        <a:pt x="1087" y="2550"/>
                      </a:cubicBezTo>
                      <a:cubicBezTo>
                        <a:pt x="1237" y="2506"/>
                        <a:pt x="1440" y="2366"/>
                        <a:pt x="1552" y="2268"/>
                      </a:cubicBezTo>
                      <a:cubicBezTo>
                        <a:pt x="1664" y="2170"/>
                        <a:pt x="1702" y="2069"/>
                        <a:pt x="1762" y="1965"/>
                      </a:cubicBezTo>
                      <a:cubicBezTo>
                        <a:pt x="1822" y="1861"/>
                        <a:pt x="1872" y="1759"/>
                        <a:pt x="1912" y="1644"/>
                      </a:cubicBezTo>
                      <a:cubicBezTo>
                        <a:pt x="1952" y="1529"/>
                        <a:pt x="2020" y="1309"/>
                        <a:pt x="2002" y="1275"/>
                      </a:cubicBezTo>
                      <a:cubicBezTo>
                        <a:pt x="1984" y="1241"/>
                        <a:pt x="1874" y="1355"/>
                        <a:pt x="1807" y="1440"/>
                      </a:cubicBezTo>
                      <a:cubicBezTo>
                        <a:pt x="1740" y="1525"/>
                        <a:pt x="1669" y="1690"/>
                        <a:pt x="1597" y="1785"/>
                      </a:cubicBezTo>
                      <a:cubicBezTo>
                        <a:pt x="1525" y="1880"/>
                        <a:pt x="1442" y="1953"/>
                        <a:pt x="1372" y="2010"/>
                      </a:cubicBezTo>
                      <a:cubicBezTo>
                        <a:pt x="1302" y="2067"/>
                        <a:pt x="1257" y="2113"/>
                        <a:pt x="1177" y="2130"/>
                      </a:cubicBezTo>
                      <a:cubicBezTo>
                        <a:pt x="1097" y="2147"/>
                        <a:pt x="982" y="2147"/>
                        <a:pt x="892" y="2115"/>
                      </a:cubicBezTo>
                      <a:cubicBezTo>
                        <a:pt x="802" y="2083"/>
                        <a:pt x="677" y="2022"/>
                        <a:pt x="637" y="1935"/>
                      </a:cubicBezTo>
                      <a:cubicBezTo>
                        <a:pt x="597" y="1848"/>
                        <a:pt x="612" y="1702"/>
                        <a:pt x="652" y="1590"/>
                      </a:cubicBezTo>
                      <a:cubicBezTo>
                        <a:pt x="692" y="1478"/>
                        <a:pt x="817" y="1355"/>
                        <a:pt x="877" y="1260"/>
                      </a:cubicBezTo>
                      <a:cubicBezTo>
                        <a:pt x="937" y="1165"/>
                        <a:pt x="990" y="1112"/>
                        <a:pt x="1012" y="1020"/>
                      </a:cubicBezTo>
                      <a:cubicBezTo>
                        <a:pt x="1034" y="928"/>
                        <a:pt x="1012" y="786"/>
                        <a:pt x="1012" y="708"/>
                      </a:cubicBezTo>
                      <a:cubicBezTo>
                        <a:pt x="1012" y="630"/>
                        <a:pt x="1012" y="670"/>
                        <a:pt x="1012" y="552"/>
                      </a:cubicBezTo>
                      <a:cubicBezTo>
                        <a:pt x="1012" y="434"/>
                        <a:pt x="1012" y="115"/>
                        <a:pt x="1012" y="0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Oval 194"/>
                <p:cNvSpPr/>
                <p:nvPr/>
              </p:nvSpPr>
              <p:spPr>
                <a:xfrm flipV="1">
                  <a:off x="6741000" y="4896360"/>
                  <a:ext cx="67680" cy="6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Group 50"/>
                <p:cNvGrpSpPr/>
                <p:nvPr/>
              </p:nvGrpSpPr>
              <p:grpSpPr>
                <a:xfrm>
                  <a:off x="6681240" y="4859280"/>
                  <a:ext cx="173880" cy="667080"/>
                  <a:chOff x="6681240" y="4859280"/>
                  <a:chExt cx="173880" cy="667080"/>
                </a:xfrm>
              </p:grpSpPr>
              <p:sp>
                <p:nvSpPr>
                  <p:cNvPr id="484" name="Freeform 192"/>
                  <p:cNvSpPr/>
                  <p:nvPr/>
                </p:nvSpPr>
                <p:spPr>
                  <a:xfrm flipV="1">
                    <a:off x="6687000" y="4859280"/>
                    <a:ext cx="168120" cy="35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15" h="1180">
                        <a:moveTo>
                          <a:pt x="0" y="0"/>
                        </a:moveTo>
                        <a:lnTo>
                          <a:pt x="915" y="15"/>
                        </a:lnTo>
                        <a:lnTo>
                          <a:pt x="630" y="1180"/>
                        </a:lnTo>
                        <a:lnTo>
                          <a:pt x="270" y="11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969696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Freeform 192"/>
                  <p:cNvSpPr/>
                  <p:nvPr/>
                </p:nvSpPr>
                <p:spPr>
                  <a:xfrm>
                    <a:off x="6681240" y="5170680"/>
                    <a:ext cx="168120" cy="35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15" h="1180">
                        <a:moveTo>
                          <a:pt x="0" y="0"/>
                        </a:moveTo>
                        <a:lnTo>
                          <a:pt x="915" y="15"/>
                        </a:lnTo>
                        <a:lnTo>
                          <a:pt x="630" y="1180"/>
                        </a:lnTo>
                        <a:lnTo>
                          <a:pt x="270" y="11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969696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Oval 193"/>
                <p:cNvSpPr/>
                <p:nvPr/>
              </p:nvSpPr>
              <p:spPr>
                <a:xfrm flipV="1">
                  <a:off x="6730560" y="5161680"/>
                  <a:ext cx="67680" cy="6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Oval 193"/>
                <p:cNvSpPr/>
                <p:nvPr/>
              </p:nvSpPr>
              <p:spPr>
                <a:xfrm flipV="1">
                  <a:off x="6741000" y="4841640"/>
                  <a:ext cx="67680" cy="6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Oval 193"/>
                <p:cNvSpPr/>
                <p:nvPr/>
              </p:nvSpPr>
              <p:spPr>
                <a:xfrm flipV="1">
                  <a:off x="6730560" y="5436360"/>
                  <a:ext cx="67680" cy="6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9" name="Text Box 144"/>
            <p:cNvSpPr/>
            <p:nvPr/>
          </p:nvSpPr>
          <p:spPr>
            <a:xfrm>
              <a:off x="6300720" y="4213440"/>
              <a:ext cx="258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144"/>
            <p:cNvSpPr/>
            <p:nvPr/>
          </p:nvSpPr>
          <p:spPr>
            <a:xfrm>
              <a:off x="6705360" y="5832720"/>
              <a:ext cx="258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8"/>
          <p:cNvSpPr/>
          <p:nvPr/>
        </p:nvSpPr>
        <p:spPr>
          <a:xfrm>
            <a:off x="611280" y="1197000"/>
            <a:ext cx="6254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imes New Roman"/>
                <a:ea typeface="黑体"/>
              </a:rPr>
              <a:t>一、简单机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19280" y="2527200"/>
            <a:ext cx="820872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杠杆的五要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点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O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力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阻力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力臂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阻力臂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示杠杆的力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684360" y="1920960"/>
            <a:ext cx="1800000" cy="716040"/>
            <a:chOff x="684360" y="1920960"/>
            <a:chExt cx="1800000" cy="716040"/>
          </a:xfrm>
        </p:grpSpPr>
        <p:grpSp>
          <p:nvGrpSpPr>
            <p:cNvPr id="46" name="Group 7"/>
            <p:cNvGrpSpPr/>
            <p:nvPr/>
          </p:nvGrpSpPr>
          <p:grpSpPr>
            <a:xfrm>
              <a:off x="684360" y="1920960"/>
              <a:ext cx="1800000" cy="716040"/>
              <a:chOff x="684360" y="1920960"/>
              <a:chExt cx="1800000" cy="716040"/>
            </a:xfrm>
          </p:grpSpPr>
          <p:pic>
            <p:nvPicPr>
              <p:cNvPr id="47" name="TextBox 2" descr=""/>
              <p:cNvPicPr/>
              <p:nvPr/>
            </p:nvPicPr>
            <p:blipFill>
              <a:blip r:embed="rId1"/>
              <a:stretch/>
            </p:blipFill>
            <p:spPr>
              <a:xfrm>
                <a:off x="684360" y="1920960"/>
                <a:ext cx="1800000" cy="71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Text Box 9"/>
              <p:cNvSpPr/>
              <p:nvPr/>
            </p:nvSpPr>
            <p:spPr>
              <a:xfrm>
                <a:off x="857520" y="1962360"/>
                <a:ext cx="144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Rectangle 10"/>
            <p:cNvSpPr/>
            <p:nvPr/>
          </p:nvSpPr>
          <p:spPr>
            <a:xfrm>
              <a:off x="1183680" y="2011320"/>
              <a:ext cx="88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杠   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8"/>
          <p:cNvSpPr/>
          <p:nvPr/>
        </p:nvSpPr>
        <p:spPr>
          <a:xfrm>
            <a:off x="1258920" y="4113360"/>
            <a:ext cx="6769080" cy="2023200"/>
          </a:xfrm>
          <a:prstGeom prst="roundRect">
            <a:avLst>
              <a:gd name="adj" fmla="val 10245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画出图中力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力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2"/>
          <p:cNvGrpSpPr/>
          <p:nvPr/>
        </p:nvGrpSpPr>
        <p:grpSpPr>
          <a:xfrm>
            <a:off x="3994200" y="3933720"/>
            <a:ext cx="3744720" cy="2355840"/>
            <a:chOff x="3994200" y="3933720"/>
            <a:chExt cx="3744720" cy="2355840"/>
          </a:xfrm>
        </p:grpSpPr>
        <p:pic>
          <p:nvPicPr>
            <p:cNvPr id="52" name="Picture 8" descr="胳膊"/>
            <p:cNvPicPr/>
            <p:nvPr/>
          </p:nvPicPr>
          <p:blipFill>
            <a:blip r:embed="rId2"/>
            <a:stretch/>
          </p:blipFill>
          <p:spPr>
            <a:xfrm>
              <a:off x="3994200" y="3933720"/>
              <a:ext cx="374472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Line 14"/>
            <p:cNvSpPr/>
            <p:nvPr/>
          </p:nvSpPr>
          <p:spPr>
            <a:xfrm>
              <a:off x="4606560" y="4905360"/>
              <a:ext cx="0" cy="1187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4213080" y="5769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6837120" y="52657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6948720" y="5121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Line 20"/>
          <p:cNvSpPr/>
          <p:nvPr/>
        </p:nvSpPr>
        <p:spPr>
          <a:xfrm>
            <a:off x="4606920" y="5300640"/>
            <a:ext cx="2195640" cy="1440"/>
          </a:xfrm>
          <a:prstGeom prst="line">
            <a:avLst/>
          </a:prstGeom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5614920" y="5121360"/>
            <a:ext cx="493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611280" y="836640"/>
            <a:ext cx="2055600" cy="633240"/>
            <a:chOff x="611280" y="836640"/>
            <a:chExt cx="2055600" cy="633240"/>
          </a:xfrm>
        </p:grpSpPr>
        <p:grpSp>
          <p:nvGrpSpPr>
            <p:cNvPr id="60" name="Group 11"/>
            <p:cNvGrpSpPr/>
            <p:nvPr/>
          </p:nvGrpSpPr>
          <p:grpSpPr>
            <a:xfrm>
              <a:off x="611280" y="841320"/>
              <a:ext cx="2055600" cy="596520"/>
              <a:chOff x="611280" y="841320"/>
              <a:chExt cx="2055600" cy="596520"/>
            </a:xfrm>
          </p:grpSpPr>
          <p:sp>
            <p:nvSpPr>
              <p:cNvPr id="61" name="MH_Other_2"/>
              <p:cNvSpPr/>
              <p:nvPr/>
            </p:nvSpPr>
            <p:spPr>
              <a:xfrm>
                <a:off x="729360" y="971280"/>
                <a:ext cx="1835280" cy="38088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" name="MH_Other_8" descr=""/>
              <p:cNvPicPr/>
              <p:nvPr/>
            </p:nvPicPr>
            <p:blipFill>
              <a:blip r:embed="rId3"/>
              <a:stretch/>
            </p:blipFill>
            <p:spPr>
              <a:xfrm>
                <a:off x="611280" y="841320"/>
                <a:ext cx="2055600" cy="59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MH_Other_9"/>
              <p:cNvSpPr/>
              <p:nvPr/>
            </p:nvSpPr>
            <p:spPr>
              <a:xfrm>
                <a:off x="832320" y="1049760"/>
                <a:ext cx="221400" cy="21528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MH_Other_10"/>
              <p:cNvSpPr/>
              <p:nvPr/>
            </p:nvSpPr>
            <p:spPr>
              <a:xfrm>
                <a:off x="882720" y="109728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MH_SubTitle_4"/>
            <p:cNvSpPr/>
            <p:nvPr/>
          </p:nvSpPr>
          <p:spPr>
            <a:xfrm>
              <a:off x="1260360" y="836640"/>
              <a:ext cx="12978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知识梳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971640" y="693720"/>
            <a:ext cx="770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一块截面积为矩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均匀金属块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00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它的长宽之比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将它置于水平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面上如图所示，若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用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抬起金属块的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，则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少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2556000" y="3716280"/>
            <a:ext cx="3168000" cy="1869480"/>
            <a:chOff x="2556000" y="3716280"/>
            <a:chExt cx="3168000" cy="1869480"/>
          </a:xfrm>
        </p:grpSpPr>
        <p:sp>
          <p:nvSpPr>
            <p:cNvPr id="68" name="Line 4"/>
            <p:cNvSpPr/>
            <p:nvPr/>
          </p:nvSpPr>
          <p:spPr>
            <a:xfrm>
              <a:off x="2556000" y="5005800"/>
              <a:ext cx="3168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5"/>
            <p:cNvSpPr/>
            <p:nvPr/>
          </p:nvSpPr>
          <p:spPr>
            <a:xfrm flipH="1">
              <a:off x="2597760" y="5034240"/>
              <a:ext cx="3466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6"/>
            <p:cNvSpPr/>
            <p:nvPr/>
          </p:nvSpPr>
          <p:spPr>
            <a:xfrm flipH="1">
              <a:off x="3105000" y="5034240"/>
              <a:ext cx="3466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7"/>
            <p:cNvSpPr/>
            <p:nvPr/>
          </p:nvSpPr>
          <p:spPr>
            <a:xfrm flipH="1">
              <a:off x="3584520" y="5034240"/>
              <a:ext cx="3466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8"/>
            <p:cNvSpPr/>
            <p:nvPr/>
          </p:nvSpPr>
          <p:spPr>
            <a:xfrm flipH="1">
              <a:off x="4064040" y="5034240"/>
              <a:ext cx="3466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9"/>
            <p:cNvSpPr/>
            <p:nvPr/>
          </p:nvSpPr>
          <p:spPr>
            <a:xfrm flipH="1">
              <a:off x="4485600" y="5005800"/>
              <a:ext cx="348480" cy="1684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0"/>
            <p:cNvSpPr/>
            <p:nvPr/>
          </p:nvSpPr>
          <p:spPr>
            <a:xfrm flipH="1">
              <a:off x="4859280" y="5034240"/>
              <a:ext cx="3466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1"/>
            <p:cNvSpPr/>
            <p:nvPr/>
          </p:nvSpPr>
          <p:spPr>
            <a:xfrm flipH="1">
              <a:off x="5206320" y="5034240"/>
              <a:ext cx="3484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3343680" y="4038120"/>
              <a:ext cx="1357560" cy="97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3"/>
            <p:cNvSpPr/>
            <p:nvPr/>
          </p:nvSpPr>
          <p:spPr>
            <a:xfrm>
              <a:off x="2997000" y="3732840"/>
              <a:ext cx="40068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4"/>
            <p:cNvSpPr/>
            <p:nvPr/>
          </p:nvSpPr>
          <p:spPr>
            <a:xfrm>
              <a:off x="4741920" y="3716280"/>
              <a:ext cx="40068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5"/>
            <p:cNvSpPr/>
            <p:nvPr/>
          </p:nvSpPr>
          <p:spPr>
            <a:xfrm>
              <a:off x="3138840" y="5072400"/>
              <a:ext cx="40068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6"/>
            <p:cNvSpPr/>
            <p:nvPr/>
          </p:nvSpPr>
          <p:spPr>
            <a:xfrm>
              <a:off x="4677120" y="5072400"/>
              <a:ext cx="40284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7"/>
          <p:cNvGrpSpPr/>
          <p:nvPr/>
        </p:nvGrpSpPr>
        <p:grpSpPr>
          <a:xfrm>
            <a:off x="3690000" y="4446720"/>
            <a:ext cx="425880" cy="1591560"/>
            <a:chOff x="3690000" y="4446720"/>
            <a:chExt cx="425880" cy="1591560"/>
          </a:xfrm>
        </p:grpSpPr>
        <p:sp>
          <p:nvSpPr>
            <p:cNvPr id="82" name="Oval 18"/>
            <p:cNvSpPr/>
            <p:nvPr/>
          </p:nvSpPr>
          <p:spPr>
            <a:xfrm>
              <a:off x="4011480" y="4446720"/>
              <a:ext cx="104400" cy="10944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>
              <a:off x="4073400" y="4487760"/>
              <a:ext cx="1080" cy="13939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0"/>
            <p:cNvSpPr/>
            <p:nvPr/>
          </p:nvSpPr>
          <p:spPr>
            <a:xfrm>
              <a:off x="3690000" y="5578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AutoShape 21"/>
          <p:cNvSpPr/>
          <p:nvPr/>
        </p:nvSpPr>
        <p:spPr>
          <a:xfrm>
            <a:off x="4600440" y="4986360"/>
            <a:ext cx="20484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2"/>
          <p:cNvSpPr/>
          <p:nvPr/>
        </p:nvSpPr>
        <p:spPr>
          <a:xfrm>
            <a:off x="4097160" y="5014800"/>
            <a:ext cx="544680" cy="18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3"/>
          <p:cNvGrpSpPr/>
          <p:nvPr/>
        </p:nvGrpSpPr>
        <p:grpSpPr>
          <a:xfrm>
            <a:off x="4106880" y="5165640"/>
            <a:ext cx="599760" cy="510120"/>
            <a:chOff x="4106880" y="5165640"/>
            <a:chExt cx="599760" cy="510120"/>
          </a:xfrm>
        </p:grpSpPr>
        <p:sp>
          <p:nvSpPr>
            <p:cNvPr id="88" name="AutoShape 24"/>
            <p:cNvSpPr/>
            <p:nvPr/>
          </p:nvSpPr>
          <p:spPr>
            <a:xfrm rot="16200000">
              <a:off x="4356000" y="4961160"/>
              <a:ext cx="101520" cy="599760"/>
            </a:xfrm>
            <a:custGeom>
              <a:avLst/>
              <a:gdLst>
                <a:gd name="textAreaLeft" fmla="*/ 64800 w 101520"/>
                <a:gd name="textAreaRight" fmla="*/ 101880 w 101520"/>
                <a:gd name="textAreaTop" fmla="*/ 15480 h 599760"/>
                <a:gd name="textAreaBottom" fmla="*/ 584280 h 5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7"/>
                    <a:pt x="10800" y="1794"/>
                  </a:cubicBezTo>
                  <a:lnTo>
                    <a:pt x="10800" y="9006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7"/>
                    <a:pt x="10800" y="12594"/>
                  </a:cubicBezTo>
                  <a:lnTo>
                    <a:pt x="10800" y="19806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5"/>
            <p:cNvSpPr/>
            <p:nvPr/>
          </p:nvSpPr>
          <p:spPr>
            <a:xfrm>
              <a:off x="4122720" y="516564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6"/>
          <p:cNvGrpSpPr/>
          <p:nvPr/>
        </p:nvGrpSpPr>
        <p:grpSpPr>
          <a:xfrm>
            <a:off x="3387600" y="3043080"/>
            <a:ext cx="618840" cy="970200"/>
            <a:chOff x="3387600" y="3043080"/>
            <a:chExt cx="618840" cy="970200"/>
          </a:xfrm>
        </p:grpSpPr>
        <p:sp>
          <p:nvSpPr>
            <p:cNvPr id="91" name="Line 27"/>
            <p:cNvSpPr/>
            <p:nvPr/>
          </p:nvSpPr>
          <p:spPr>
            <a:xfrm flipV="1">
              <a:off x="3387600" y="3509640"/>
              <a:ext cx="356400" cy="503640"/>
            </a:xfrm>
            <a:prstGeom prst="line">
              <a:avLst/>
            </a:prstGeom>
            <a:ln w="28440">
              <a:solidFill>
                <a:srgbClr val="000066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8"/>
            <p:cNvSpPr/>
            <p:nvPr/>
          </p:nvSpPr>
          <p:spPr>
            <a:xfrm rot="341400">
              <a:off x="3601080" y="3060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9"/>
          <p:cNvGrpSpPr/>
          <p:nvPr/>
        </p:nvGrpSpPr>
        <p:grpSpPr>
          <a:xfrm>
            <a:off x="3392280" y="3844440"/>
            <a:ext cx="1418040" cy="1229040"/>
            <a:chOff x="3392280" y="3844440"/>
            <a:chExt cx="1418040" cy="1229040"/>
          </a:xfrm>
        </p:grpSpPr>
        <p:sp>
          <p:nvSpPr>
            <p:cNvPr id="94" name="Line 30"/>
            <p:cNvSpPr/>
            <p:nvPr/>
          </p:nvSpPr>
          <p:spPr>
            <a:xfrm>
              <a:off x="3416400" y="4071960"/>
              <a:ext cx="1349280" cy="1001520"/>
            </a:xfrm>
            <a:prstGeom prst="line">
              <a:avLst/>
            </a:prstGeom>
            <a:ln w="28440">
              <a:solidFill>
                <a:srgbClr val="00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31"/>
            <p:cNvSpPr/>
            <p:nvPr/>
          </p:nvSpPr>
          <p:spPr>
            <a:xfrm flipV="1" rot="7576200">
              <a:off x="4002840" y="3593880"/>
              <a:ext cx="196560" cy="1614600"/>
            </a:xfrm>
            <a:custGeom>
              <a:avLst/>
              <a:gdLst>
                <a:gd name="textAreaLeft" fmla="*/ 125640 w 196560"/>
                <a:gd name="textAreaRight" fmla="*/ 196920 w 196560"/>
                <a:gd name="textAreaTop" fmla="*/ 41760 h 1614600"/>
                <a:gd name="textAreaBottom" fmla="*/ 1572840 h 16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7"/>
                    <a:pt x="10800" y="1794"/>
                  </a:cubicBezTo>
                  <a:lnTo>
                    <a:pt x="10800" y="9006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7"/>
                    <a:pt x="10800" y="12594"/>
                  </a:cubicBezTo>
                  <a:lnTo>
                    <a:pt x="10800" y="19806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2"/>
            <p:cNvSpPr/>
            <p:nvPr/>
          </p:nvSpPr>
          <p:spPr>
            <a:xfrm>
              <a:off x="4142520" y="4081320"/>
              <a:ext cx="32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Object 33" descr=""/>
          <p:cNvPicPr/>
          <p:nvPr/>
        </p:nvPicPr>
        <p:blipFill>
          <a:blip r:embed="rId1"/>
          <a:stretch/>
        </p:blipFill>
        <p:spPr>
          <a:xfrm>
            <a:off x="5977080" y="3500280"/>
            <a:ext cx="1753920" cy="1150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5"/>
          <p:cNvSpPr/>
          <p:nvPr/>
        </p:nvSpPr>
        <p:spPr>
          <a:xfrm>
            <a:off x="3780000" y="2236680"/>
            <a:ext cx="15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1"/>
          <p:cNvSpPr/>
          <p:nvPr/>
        </p:nvSpPr>
        <p:spPr>
          <a:xfrm>
            <a:off x="684360" y="717480"/>
            <a:ext cx="76327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探究杠杆的平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调节杠杆在水平位置平衡 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获取实验数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③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归纳结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2781360"/>
          <a:ext cx="8697600" cy="3408480"/>
        </p:xfrm>
        <a:graphic>
          <a:graphicData uri="http://schemas.openxmlformats.org/drawingml/2006/table">
            <a:tbl>
              <a:tblPr/>
              <a:tblGrid>
                <a:gridCol w="825120"/>
                <a:gridCol w="974880"/>
                <a:gridCol w="1116000"/>
                <a:gridCol w="1800000"/>
                <a:gridCol w="865440"/>
                <a:gridCol w="1223640"/>
                <a:gridCol w="1892520"/>
              </a:tblGrid>
              <a:tr h="78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实验次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阻力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阻力臂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阻力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×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阻力臂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N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动力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动力臂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动力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×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动力臂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N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 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1"/>
          <p:cNvSpPr/>
          <p:nvPr/>
        </p:nvSpPr>
        <p:spPr>
          <a:xfrm>
            <a:off x="539640" y="915840"/>
            <a:ext cx="846000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杠杆的平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力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阻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阻力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×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×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Object 3" descr=""/>
          <p:cNvPicPr/>
          <p:nvPr/>
        </p:nvPicPr>
        <p:blipFill>
          <a:blip r:embed="rId1"/>
          <a:stretch/>
        </p:blipFill>
        <p:spPr>
          <a:xfrm>
            <a:off x="6227640" y="2189160"/>
            <a:ext cx="1116000" cy="9158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3139200" y="237024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个力与它们的力臂成反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812880" y="3213000"/>
            <a:ext cx="4622760" cy="2683800"/>
          </a:xfrm>
          <a:prstGeom prst="roundRect">
            <a:avLst>
              <a:gd name="adj" fmla="val 3245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楷体"/>
              </a:rPr>
              <a:t>例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右图所示杠杆平衡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作如下变化，杠杆能平衡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若左侧加一个相同钩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若右侧减一个钩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支点右移一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左侧钩码组左移一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5580000" y="4221000"/>
            <a:ext cx="3152880" cy="934920"/>
            <a:chOff x="5580000" y="4221000"/>
            <a:chExt cx="3152880" cy="934920"/>
          </a:xfrm>
        </p:grpSpPr>
        <p:grpSp>
          <p:nvGrpSpPr>
            <p:cNvPr id="106" name="Group 44"/>
            <p:cNvGrpSpPr/>
            <p:nvPr/>
          </p:nvGrpSpPr>
          <p:grpSpPr>
            <a:xfrm>
              <a:off x="6156360" y="4303800"/>
              <a:ext cx="257040" cy="852120"/>
              <a:chOff x="6156360" y="4303800"/>
              <a:chExt cx="257040" cy="852120"/>
            </a:xfrm>
          </p:grpSpPr>
          <p:sp>
            <p:nvSpPr>
              <p:cNvPr id="107" name="Rectangle 45"/>
              <p:cNvSpPr/>
              <p:nvPr/>
            </p:nvSpPr>
            <p:spPr>
              <a:xfrm>
                <a:off x="6156360" y="4490280"/>
                <a:ext cx="257040" cy="165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46"/>
              <p:cNvSpPr/>
              <p:nvPr/>
            </p:nvSpPr>
            <p:spPr>
              <a:xfrm>
                <a:off x="6284880" y="4303800"/>
                <a:ext cx="0" cy="18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47"/>
              <p:cNvSpPr/>
              <p:nvPr/>
            </p:nvSpPr>
            <p:spPr>
              <a:xfrm>
                <a:off x="6284880" y="4656240"/>
                <a:ext cx="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48"/>
              <p:cNvSpPr/>
              <p:nvPr/>
            </p:nvSpPr>
            <p:spPr>
              <a:xfrm>
                <a:off x="6156360" y="4763880"/>
                <a:ext cx="257040" cy="165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49"/>
              <p:cNvSpPr/>
              <p:nvPr/>
            </p:nvSpPr>
            <p:spPr>
              <a:xfrm>
                <a:off x="6284880" y="4906440"/>
                <a:ext cx="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50"/>
              <p:cNvSpPr/>
              <p:nvPr/>
            </p:nvSpPr>
            <p:spPr>
              <a:xfrm>
                <a:off x="6156360" y="4989960"/>
                <a:ext cx="257040" cy="165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15"/>
            <p:cNvGrpSpPr/>
            <p:nvPr/>
          </p:nvGrpSpPr>
          <p:grpSpPr>
            <a:xfrm>
              <a:off x="8172360" y="4255920"/>
              <a:ext cx="272880" cy="893880"/>
              <a:chOff x="8172360" y="4255920"/>
              <a:chExt cx="272880" cy="893880"/>
            </a:xfrm>
          </p:grpSpPr>
          <p:sp>
            <p:nvSpPr>
              <p:cNvPr id="114" name="Line 57"/>
              <p:cNvSpPr/>
              <p:nvPr/>
            </p:nvSpPr>
            <p:spPr>
              <a:xfrm>
                <a:off x="8316720" y="4869000"/>
                <a:ext cx="0" cy="15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Group 17"/>
              <p:cNvGrpSpPr/>
              <p:nvPr/>
            </p:nvGrpSpPr>
            <p:grpSpPr>
              <a:xfrm>
                <a:off x="8172360" y="4255920"/>
                <a:ext cx="272880" cy="893880"/>
                <a:chOff x="8172360" y="4255920"/>
                <a:chExt cx="272880" cy="893880"/>
              </a:xfrm>
            </p:grpSpPr>
            <p:sp>
              <p:nvSpPr>
                <p:cNvPr id="116" name="Rectangle 58"/>
                <p:cNvSpPr/>
                <p:nvPr/>
              </p:nvSpPr>
              <p:spPr>
                <a:xfrm>
                  <a:off x="8172360" y="4970160"/>
                  <a:ext cx="272880" cy="179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b6a6a"/>
                    </a:gs>
                    <a:gs pos="50000">
                      <a:srgbClr val="e7e6e6"/>
                    </a:gs>
                    <a:gs pos="100000">
                      <a:srgbClr val="6b6a6a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" name="Group 19"/>
                <p:cNvGrpSpPr/>
                <p:nvPr/>
              </p:nvGrpSpPr>
              <p:grpSpPr>
                <a:xfrm>
                  <a:off x="8184960" y="4255920"/>
                  <a:ext cx="258840" cy="623520"/>
                  <a:chOff x="8184960" y="4255920"/>
                  <a:chExt cx="258840" cy="623520"/>
                </a:xfrm>
              </p:grpSpPr>
              <p:sp>
                <p:nvSpPr>
                  <p:cNvPr id="118" name="Line 51"/>
                  <p:cNvSpPr/>
                  <p:nvPr/>
                </p:nvSpPr>
                <p:spPr>
                  <a:xfrm>
                    <a:off x="8321760" y="4588920"/>
                    <a:ext cx="0" cy="13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9" name="Group 52"/>
                  <p:cNvGrpSpPr/>
                  <p:nvPr/>
                </p:nvGrpSpPr>
                <p:grpSpPr>
                  <a:xfrm>
                    <a:off x="8184960" y="4255920"/>
                    <a:ext cx="258840" cy="623520"/>
                    <a:chOff x="8184960" y="4255920"/>
                    <a:chExt cx="258840" cy="623520"/>
                  </a:xfrm>
                </p:grpSpPr>
                <p:sp>
                  <p:nvSpPr>
                    <p:cNvPr id="120" name="Rectangle 53"/>
                    <p:cNvSpPr/>
                    <p:nvPr/>
                  </p:nvSpPr>
                  <p:spPr>
                    <a:xfrm>
                      <a:off x="8184960" y="4442040"/>
                      <a:ext cx="258840" cy="164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b6a6a"/>
                        </a:gs>
                        <a:gs pos="50000">
                          <a:srgbClr val="e7e6e6"/>
                        </a:gs>
                        <a:gs pos="100000">
                          <a:srgbClr val="6b6a6a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Line 54"/>
                    <p:cNvSpPr/>
                    <p:nvPr/>
                  </p:nvSpPr>
                  <p:spPr>
                    <a:xfrm>
                      <a:off x="8314200" y="4255920"/>
                      <a:ext cx="0" cy="185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Rectangle 55"/>
                    <p:cNvSpPr/>
                    <p:nvPr/>
                  </p:nvSpPr>
                  <p:spPr>
                    <a:xfrm>
                      <a:off x="8184960" y="4715280"/>
                      <a:ext cx="258840" cy="164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b6a6a"/>
                        </a:gs>
                        <a:gs pos="50000">
                          <a:srgbClr val="e7e6e6"/>
                        </a:gs>
                        <a:gs pos="100000">
                          <a:srgbClr val="6b6a6a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23" name="Group 25"/>
            <p:cNvGrpSpPr/>
            <p:nvPr/>
          </p:nvGrpSpPr>
          <p:grpSpPr>
            <a:xfrm>
              <a:off x="5580000" y="4221000"/>
              <a:ext cx="3152880" cy="287280"/>
              <a:chOff x="5580000" y="4221000"/>
              <a:chExt cx="3152880" cy="287280"/>
            </a:xfrm>
          </p:grpSpPr>
          <p:grpSp>
            <p:nvGrpSpPr>
              <p:cNvPr id="124" name="Group 59"/>
              <p:cNvGrpSpPr/>
              <p:nvPr/>
            </p:nvGrpSpPr>
            <p:grpSpPr>
              <a:xfrm>
                <a:off x="5580000" y="4221000"/>
                <a:ext cx="3152880" cy="100440"/>
                <a:chOff x="5580000" y="4221000"/>
                <a:chExt cx="3152880" cy="100440"/>
              </a:xfrm>
            </p:grpSpPr>
            <p:sp>
              <p:nvSpPr>
                <p:cNvPr id="125" name="Rectangle 60"/>
                <p:cNvSpPr/>
                <p:nvPr/>
              </p:nvSpPr>
              <p:spPr>
                <a:xfrm>
                  <a:off x="5580000" y="4221000"/>
                  <a:ext cx="3152880" cy="96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61"/>
                <p:cNvSpPr/>
                <p:nvPr/>
              </p:nvSpPr>
              <p:spPr>
                <a:xfrm>
                  <a:off x="6281280" y="422532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62"/>
                <p:cNvSpPr/>
                <p:nvPr/>
              </p:nvSpPr>
              <p:spPr>
                <a:xfrm>
                  <a:off x="658332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63"/>
                <p:cNvSpPr/>
                <p:nvPr/>
              </p:nvSpPr>
              <p:spPr>
                <a:xfrm>
                  <a:off x="688752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64"/>
                <p:cNvSpPr/>
                <p:nvPr/>
              </p:nvSpPr>
              <p:spPr>
                <a:xfrm>
                  <a:off x="716796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65"/>
                <p:cNvSpPr/>
                <p:nvPr/>
              </p:nvSpPr>
              <p:spPr>
                <a:xfrm>
                  <a:off x="747216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66"/>
                <p:cNvSpPr/>
                <p:nvPr/>
              </p:nvSpPr>
              <p:spPr>
                <a:xfrm>
                  <a:off x="777492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67"/>
                <p:cNvSpPr/>
                <p:nvPr/>
              </p:nvSpPr>
              <p:spPr>
                <a:xfrm>
                  <a:off x="805536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68"/>
                <p:cNvSpPr/>
                <p:nvPr/>
              </p:nvSpPr>
              <p:spPr>
                <a:xfrm>
                  <a:off x="861624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69"/>
                <p:cNvSpPr/>
                <p:nvPr/>
              </p:nvSpPr>
              <p:spPr>
                <a:xfrm>
                  <a:off x="831204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70"/>
                <p:cNvSpPr/>
                <p:nvPr/>
              </p:nvSpPr>
              <p:spPr>
                <a:xfrm>
                  <a:off x="597672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71"/>
                <p:cNvSpPr/>
                <p:nvPr/>
              </p:nvSpPr>
              <p:spPr>
                <a:xfrm>
                  <a:off x="569664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AutoShape 72"/>
              <p:cNvSpPr/>
              <p:nvPr/>
            </p:nvSpPr>
            <p:spPr>
              <a:xfrm>
                <a:off x="7117560" y="4298760"/>
                <a:ext cx="117720" cy="209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56"/>
          <p:cNvGrpSpPr/>
          <p:nvPr/>
        </p:nvGrpSpPr>
        <p:grpSpPr>
          <a:xfrm>
            <a:off x="8172360" y="5157720"/>
            <a:ext cx="273240" cy="314280"/>
            <a:chOff x="8172360" y="5157720"/>
            <a:chExt cx="273240" cy="314280"/>
          </a:xfrm>
        </p:grpSpPr>
        <p:sp>
          <p:nvSpPr>
            <p:cNvPr id="139" name="Line 57"/>
            <p:cNvSpPr/>
            <p:nvPr/>
          </p:nvSpPr>
          <p:spPr>
            <a:xfrm>
              <a:off x="8307360" y="515772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8"/>
            <p:cNvSpPr/>
            <p:nvPr/>
          </p:nvSpPr>
          <p:spPr>
            <a:xfrm>
              <a:off x="8172360" y="5292360"/>
              <a:ext cx="273240" cy="179640"/>
            </a:xfrm>
            <a:prstGeom prst="rect">
              <a:avLst/>
            </a:prstGeom>
            <a:gradFill rotWithShape="0">
              <a:gsLst>
                <a:gs pos="0">
                  <a:srgbClr val="6b6a6a"/>
                </a:gs>
                <a:gs pos="50000">
                  <a:srgbClr val="e7e6e6"/>
                </a:gs>
                <a:gs pos="100000">
                  <a:srgbClr val="6b6a6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900000" y="765000"/>
            <a:ext cx="403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杠杆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324000" y="1413000"/>
            <a:ext cx="864072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省力杠杆：动力臂大于阻力臂。省力，但费距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费力杠杆：动力臂小于阻力臂。省距离，但费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臂杠杆：动力臂等于阻力臂。不省力也不费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755640" y="3860640"/>
            <a:ext cx="81010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"/>
              </a:rPr>
              <a:t>例：钓鱼杆、使用筷子、用大扫帚扫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755640" y="2421000"/>
            <a:ext cx="813744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"/>
              </a:rPr>
              <a:t>例：开瓶起子、羊角锤起钉子、剪铁皮的剪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758880" y="5376960"/>
            <a:ext cx="81010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"/>
              </a:rPr>
              <a:t>例：天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2"/>
          <p:cNvSpPr/>
          <p:nvPr/>
        </p:nvSpPr>
        <p:spPr>
          <a:xfrm>
            <a:off x="395280" y="3807000"/>
            <a:ext cx="58960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动滑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滑轮的杠杆示意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滑轮实质是动力臂是阻力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的杠杆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68360" y="1773360"/>
            <a:ext cx="5896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定滑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滑轮杠杆示意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滑轮实质是等臂杠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611280" y="907920"/>
            <a:ext cx="2006280" cy="716040"/>
            <a:chOff x="611280" y="907920"/>
            <a:chExt cx="2006280" cy="716040"/>
          </a:xfrm>
        </p:grpSpPr>
        <p:grpSp>
          <p:nvGrpSpPr>
            <p:cNvPr id="149" name="Group 7"/>
            <p:cNvGrpSpPr/>
            <p:nvPr/>
          </p:nvGrpSpPr>
          <p:grpSpPr>
            <a:xfrm>
              <a:off x="611280" y="907920"/>
              <a:ext cx="2006280" cy="716040"/>
              <a:chOff x="611280" y="907920"/>
              <a:chExt cx="2006280" cy="716040"/>
            </a:xfrm>
          </p:grpSpPr>
          <p:pic>
            <p:nvPicPr>
              <p:cNvPr id="150" name="TextBox 2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907920"/>
                <a:ext cx="2006280" cy="71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Text Box 9"/>
              <p:cNvSpPr/>
              <p:nvPr/>
            </p:nvSpPr>
            <p:spPr>
              <a:xfrm>
                <a:off x="804240" y="949320"/>
                <a:ext cx="160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Rectangle 10"/>
            <p:cNvSpPr/>
            <p:nvPr/>
          </p:nvSpPr>
          <p:spPr>
            <a:xfrm>
              <a:off x="965160" y="998280"/>
              <a:ext cx="13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滑    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6084720" y="1152360"/>
            <a:ext cx="2160720" cy="2217960"/>
            <a:chOff x="6084720" y="1152360"/>
            <a:chExt cx="2160720" cy="2217960"/>
          </a:xfrm>
        </p:grpSpPr>
        <p:sp>
          <p:nvSpPr>
            <p:cNvPr id="154" name="Text Box 120"/>
            <p:cNvSpPr/>
            <p:nvPr/>
          </p:nvSpPr>
          <p:spPr>
            <a:xfrm>
              <a:off x="7669080" y="2860200"/>
              <a:ext cx="57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13"/>
            <p:cNvGrpSpPr/>
            <p:nvPr/>
          </p:nvGrpSpPr>
          <p:grpSpPr>
            <a:xfrm>
              <a:off x="6084720" y="1152360"/>
              <a:ext cx="1774800" cy="2217960"/>
              <a:chOff x="6084720" y="1152360"/>
              <a:chExt cx="1774800" cy="2217960"/>
            </a:xfrm>
          </p:grpSpPr>
          <p:grpSp>
            <p:nvGrpSpPr>
              <p:cNvPr id="156" name="Group 14"/>
              <p:cNvGrpSpPr/>
              <p:nvPr/>
            </p:nvGrpSpPr>
            <p:grpSpPr>
              <a:xfrm>
                <a:off x="6399000" y="1152360"/>
                <a:ext cx="1395000" cy="1980720"/>
                <a:chOff x="6399000" y="1152360"/>
                <a:chExt cx="1395000" cy="1980720"/>
              </a:xfrm>
            </p:grpSpPr>
            <p:sp>
              <p:nvSpPr>
                <p:cNvPr id="157" name="Oval 67"/>
                <p:cNvSpPr/>
                <p:nvPr/>
              </p:nvSpPr>
              <p:spPr>
                <a:xfrm>
                  <a:off x="6399000" y="1462680"/>
                  <a:ext cx="1395000" cy="12960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Oval 68"/>
                <p:cNvSpPr/>
                <p:nvPr/>
              </p:nvSpPr>
              <p:spPr>
                <a:xfrm>
                  <a:off x="6536160" y="1601640"/>
                  <a:ext cx="1120320" cy="1019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69"/>
                <p:cNvSpPr/>
                <p:nvPr/>
              </p:nvSpPr>
              <p:spPr>
                <a:xfrm>
                  <a:off x="7028640" y="1322280"/>
                  <a:ext cx="135360" cy="16459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Oval 78"/>
                <p:cNvSpPr/>
                <p:nvPr/>
              </p:nvSpPr>
              <p:spPr>
                <a:xfrm>
                  <a:off x="7055640" y="2065320"/>
                  <a:ext cx="54000" cy="56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112"/>
                <p:cNvSpPr/>
                <p:nvPr/>
              </p:nvSpPr>
              <p:spPr>
                <a:xfrm>
                  <a:off x="7072560" y="2953080"/>
                  <a:ext cx="105480" cy="180000"/>
                </a:xfrm>
                <a:custGeom>
                  <a:avLst/>
                  <a:gdLst/>
                  <a:ahLst/>
                  <a:rect l="l" t="t" r="r" b="b"/>
                  <a:pathLst>
                    <a:path w="213" h="300">
                      <a:moveTo>
                        <a:pt x="90" y="0"/>
                      </a:moveTo>
                      <a:cubicBezTo>
                        <a:pt x="114" y="71"/>
                        <a:pt x="47" y="189"/>
                        <a:pt x="145" y="156"/>
                      </a:cubicBezTo>
                      <a:cubicBezTo>
                        <a:pt x="190" y="171"/>
                        <a:pt x="197" y="189"/>
                        <a:pt x="212" y="233"/>
                      </a:cubicBezTo>
                      <a:cubicBezTo>
                        <a:pt x="208" y="248"/>
                        <a:pt x="213" y="268"/>
                        <a:pt x="201" y="278"/>
                      </a:cubicBezTo>
                      <a:cubicBezTo>
                        <a:pt x="183" y="293"/>
                        <a:pt x="134" y="300"/>
                        <a:pt x="134" y="300"/>
                      </a:cubicBezTo>
                      <a:cubicBezTo>
                        <a:pt x="104" y="296"/>
                        <a:pt x="73" y="300"/>
                        <a:pt x="45" y="289"/>
                      </a:cubicBezTo>
                      <a:cubicBezTo>
                        <a:pt x="0" y="271"/>
                        <a:pt x="40" y="239"/>
                        <a:pt x="12" y="267"/>
                      </a:cubicBezTo>
                    </a:path>
                  </a:pathLst>
                </a:custGeom>
                <a:noFill/>
                <a:ln w="3816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112"/>
                <p:cNvSpPr/>
                <p:nvPr/>
              </p:nvSpPr>
              <p:spPr>
                <a:xfrm flipV="1">
                  <a:off x="7025400" y="1152360"/>
                  <a:ext cx="104760" cy="180000"/>
                </a:xfrm>
                <a:custGeom>
                  <a:avLst/>
                  <a:gdLst/>
                  <a:ahLst/>
                  <a:rect l="l" t="t" r="r" b="b"/>
                  <a:pathLst>
                    <a:path w="213" h="300">
                      <a:moveTo>
                        <a:pt x="90" y="0"/>
                      </a:moveTo>
                      <a:cubicBezTo>
                        <a:pt x="114" y="71"/>
                        <a:pt x="47" y="189"/>
                        <a:pt x="145" y="156"/>
                      </a:cubicBezTo>
                      <a:cubicBezTo>
                        <a:pt x="190" y="171"/>
                        <a:pt x="197" y="189"/>
                        <a:pt x="212" y="233"/>
                      </a:cubicBezTo>
                      <a:cubicBezTo>
                        <a:pt x="208" y="248"/>
                        <a:pt x="213" y="268"/>
                        <a:pt x="201" y="278"/>
                      </a:cubicBezTo>
                      <a:cubicBezTo>
                        <a:pt x="183" y="293"/>
                        <a:pt x="134" y="300"/>
                        <a:pt x="134" y="300"/>
                      </a:cubicBezTo>
                      <a:cubicBezTo>
                        <a:pt x="104" y="296"/>
                        <a:pt x="73" y="300"/>
                        <a:pt x="45" y="289"/>
                      </a:cubicBezTo>
                      <a:cubicBezTo>
                        <a:pt x="0" y="271"/>
                        <a:pt x="40" y="239"/>
                        <a:pt x="12" y="267"/>
                      </a:cubicBezTo>
                    </a:path>
                  </a:pathLst>
                </a:custGeom>
                <a:noFill/>
                <a:ln w="3816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Line 117"/>
              <p:cNvSpPr/>
              <p:nvPr/>
            </p:nvSpPr>
            <p:spPr>
              <a:xfrm>
                <a:off x="6399000" y="2096640"/>
                <a:ext cx="0" cy="866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  <a:headEnd len="sm" type="oval" w="sm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118"/>
              <p:cNvSpPr/>
              <p:nvPr/>
            </p:nvSpPr>
            <p:spPr>
              <a:xfrm>
                <a:off x="6084720" y="2860200"/>
                <a:ext cx="792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19"/>
              <p:cNvSpPr/>
              <p:nvPr/>
            </p:nvSpPr>
            <p:spPr>
              <a:xfrm>
                <a:off x="7794360" y="2096640"/>
                <a:ext cx="0" cy="866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  <a:headEnd len="sm" type="oval" w="sm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utoShape 122"/>
              <p:cNvSpPr/>
              <p:nvPr/>
            </p:nvSpPr>
            <p:spPr>
              <a:xfrm rot="16200000">
                <a:off x="6665040" y="1895760"/>
                <a:ext cx="142920" cy="601560"/>
              </a:xfrm>
              <a:custGeom>
                <a:avLst/>
                <a:gdLst>
                  <a:gd name="textAreaLeft" fmla="*/ 91440 w 142920"/>
                  <a:gd name="textAreaRight" fmla="*/ 143280 w 142920"/>
                  <a:gd name="textAreaTop" fmla="*/ 15480 h 601560"/>
                  <a:gd name="textAreaBottom" fmla="*/ 586080 h 60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97"/>
                      <a:pt x="10800" y="1794"/>
                    </a:cubicBezTo>
                    <a:lnTo>
                      <a:pt x="10800" y="10355"/>
                    </a:lnTo>
                    <a:cubicBezTo>
                      <a:pt x="10800" y="11252"/>
                      <a:pt x="5400" y="12149"/>
                      <a:pt x="0" y="12149"/>
                    </a:cubicBezTo>
                    <a:cubicBezTo>
                      <a:pt x="5400" y="12149"/>
                      <a:pt x="10800" y="13046"/>
                      <a:pt x="10800" y="13943"/>
                    </a:cubicBezTo>
                    <a:lnTo>
                      <a:pt x="10800" y="19806"/>
                    </a:lnTo>
                    <a:cubicBezTo>
                      <a:pt x="10800" y="20703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123"/>
              <p:cNvSpPr/>
              <p:nvPr/>
            </p:nvSpPr>
            <p:spPr>
              <a:xfrm>
                <a:off x="6678360" y="2233440"/>
                <a:ext cx="576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l</a:t>
                </a:r>
                <a:r>
                  <a:rPr b="1" lang="en-US" sz="2800" spc="-1" strike="noStrike" baseline="-25000">
                    <a:solidFill>
                      <a:srgbClr val="cc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126"/>
              <p:cNvSpPr/>
              <p:nvPr/>
            </p:nvSpPr>
            <p:spPr>
              <a:xfrm>
                <a:off x="7283160" y="2180880"/>
                <a:ext cx="576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l</a:t>
                </a:r>
                <a:r>
                  <a:rPr b="1" lang="en-US" sz="2800" spc="-1" strike="noStrike" baseline="-25000">
                    <a:solidFill>
                      <a:srgbClr val="cc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116"/>
              <p:cNvSpPr/>
              <p:nvPr/>
            </p:nvSpPr>
            <p:spPr>
              <a:xfrm>
                <a:off x="7075440" y="1647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utoShape 125"/>
              <p:cNvSpPr/>
              <p:nvPr/>
            </p:nvSpPr>
            <p:spPr>
              <a:xfrm flipH="1" rot="16200000">
                <a:off x="7360200" y="1843560"/>
                <a:ext cx="142920" cy="706320"/>
              </a:xfrm>
              <a:custGeom>
                <a:avLst/>
                <a:gdLst>
                  <a:gd name="textAreaLeft" fmla="*/ 0 w 142920"/>
                  <a:gd name="textAreaRight" fmla="*/ 51480 w 142920"/>
                  <a:gd name="textAreaTop" fmla="*/ 18360 h 706320"/>
                  <a:gd name="textAreaBottom" fmla="*/ 68796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897"/>
                      <a:pt x="10800" y="1794"/>
                    </a:cubicBezTo>
                    <a:lnTo>
                      <a:pt x="10800" y="9006"/>
                    </a:lnTo>
                    <a:cubicBezTo>
                      <a:pt x="10800" y="9903"/>
                      <a:pt x="16200" y="10800"/>
                      <a:pt x="21600" y="10800"/>
                    </a:cubicBezTo>
                    <a:cubicBezTo>
                      <a:pt x="16200" y="10800"/>
                      <a:pt x="10800" y="11697"/>
                      <a:pt x="10800" y="12594"/>
                    </a:cubicBezTo>
                    <a:lnTo>
                      <a:pt x="10800" y="19806"/>
                    </a:lnTo>
                    <a:cubicBezTo>
                      <a:pt x="10800" y="20703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29"/>
              <p:cNvSpPr/>
              <p:nvPr/>
            </p:nvSpPr>
            <p:spPr>
              <a:xfrm>
                <a:off x="6443640" y="2098440"/>
                <a:ext cx="13507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30"/>
              <p:cNvSpPr/>
              <p:nvPr/>
            </p:nvSpPr>
            <p:spPr>
              <a:xfrm>
                <a:off x="6580080" y="1198080"/>
                <a:ext cx="1035000" cy="0"/>
              </a:xfrm>
              <a:prstGeom prst="line">
                <a:avLst/>
              </a:prstGeom>
              <a:ln w="57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31"/>
          <p:cNvGrpSpPr/>
          <p:nvPr/>
        </p:nvGrpSpPr>
        <p:grpSpPr>
          <a:xfrm>
            <a:off x="6084720" y="3537000"/>
            <a:ext cx="2287800" cy="3060360"/>
            <a:chOff x="6084720" y="3537000"/>
            <a:chExt cx="2287800" cy="3060360"/>
          </a:xfrm>
        </p:grpSpPr>
        <p:grpSp>
          <p:nvGrpSpPr>
            <p:cNvPr id="174" name="Group 32"/>
            <p:cNvGrpSpPr/>
            <p:nvPr/>
          </p:nvGrpSpPr>
          <p:grpSpPr>
            <a:xfrm>
              <a:off x="6084720" y="3537000"/>
              <a:ext cx="1440000" cy="3060360"/>
              <a:chOff x="6084720" y="3537000"/>
              <a:chExt cx="1440000" cy="3060360"/>
            </a:xfrm>
          </p:grpSpPr>
          <p:sp>
            <p:nvSpPr>
              <p:cNvPr id="175" name="Line 33"/>
              <p:cNvSpPr/>
              <p:nvPr/>
            </p:nvSpPr>
            <p:spPr>
              <a:xfrm flipV="1">
                <a:off x="6535800" y="3627720"/>
                <a:ext cx="0" cy="122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Group 151"/>
              <p:cNvGrpSpPr/>
              <p:nvPr/>
            </p:nvGrpSpPr>
            <p:grpSpPr>
              <a:xfrm>
                <a:off x="6084720" y="3537000"/>
                <a:ext cx="931680" cy="90720"/>
                <a:chOff x="6084720" y="3537000"/>
                <a:chExt cx="931680" cy="90720"/>
              </a:xfrm>
            </p:grpSpPr>
            <p:sp>
              <p:nvSpPr>
                <p:cNvPr id="177" name="Rectangle 152"/>
                <p:cNvSpPr/>
                <p:nvPr/>
              </p:nvSpPr>
              <p:spPr>
                <a:xfrm>
                  <a:off x="6091200" y="3537000"/>
                  <a:ext cx="925200" cy="820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153"/>
                <p:cNvSpPr/>
                <p:nvPr/>
              </p:nvSpPr>
              <p:spPr>
                <a:xfrm>
                  <a:off x="6084720" y="3627720"/>
                  <a:ext cx="915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37"/>
              <p:cNvGrpSpPr/>
              <p:nvPr/>
            </p:nvGrpSpPr>
            <p:grpSpPr>
              <a:xfrm>
                <a:off x="7031160" y="5942160"/>
                <a:ext cx="493560" cy="655200"/>
                <a:chOff x="7031160" y="5942160"/>
                <a:chExt cx="493560" cy="655200"/>
              </a:xfrm>
            </p:grpSpPr>
            <p:sp>
              <p:nvSpPr>
                <p:cNvPr id="180" name="Line 38"/>
                <p:cNvSpPr/>
                <p:nvPr/>
              </p:nvSpPr>
              <p:spPr>
                <a:xfrm flipV="1">
                  <a:off x="7260840" y="5942160"/>
                  <a:ext cx="0" cy="234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39"/>
                <p:cNvSpPr/>
                <p:nvPr/>
              </p:nvSpPr>
              <p:spPr>
                <a:xfrm>
                  <a:off x="7031160" y="6206400"/>
                  <a:ext cx="493560" cy="390960"/>
                </a:xfrm>
                <a:prstGeom prst="rect">
                  <a:avLst/>
                </a:prstGeom>
                <a:noFill/>
                <a:ln w="19080">
                  <a:solidFill>
                    <a:srgbClr val="4d4d4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Group 40"/>
            <p:cNvGrpSpPr/>
            <p:nvPr/>
          </p:nvGrpSpPr>
          <p:grpSpPr>
            <a:xfrm>
              <a:off x="6130800" y="3862440"/>
              <a:ext cx="2241720" cy="2534400"/>
              <a:chOff x="6130800" y="3862440"/>
              <a:chExt cx="2241720" cy="2534400"/>
            </a:xfrm>
          </p:grpSpPr>
          <p:sp>
            <p:nvSpPr>
              <p:cNvPr id="183" name="Text Box 120"/>
              <p:cNvSpPr/>
              <p:nvPr/>
            </p:nvSpPr>
            <p:spPr>
              <a:xfrm>
                <a:off x="7796160" y="3862440"/>
                <a:ext cx="57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" name="Group 42"/>
              <p:cNvGrpSpPr/>
              <p:nvPr/>
            </p:nvGrpSpPr>
            <p:grpSpPr>
              <a:xfrm>
                <a:off x="6130800" y="3951360"/>
                <a:ext cx="1827360" cy="2445480"/>
                <a:chOff x="6130800" y="3951360"/>
                <a:chExt cx="1827360" cy="2445480"/>
              </a:xfrm>
            </p:grpSpPr>
            <p:grpSp>
              <p:nvGrpSpPr>
                <p:cNvPr id="185" name="Group 43"/>
                <p:cNvGrpSpPr/>
                <p:nvPr/>
              </p:nvGrpSpPr>
              <p:grpSpPr>
                <a:xfrm>
                  <a:off x="6534000" y="3951360"/>
                  <a:ext cx="1395000" cy="1981080"/>
                  <a:chOff x="6534000" y="3951360"/>
                  <a:chExt cx="1395000" cy="1981080"/>
                </a:xfrm>
              </p:grpSpPr>
              <p:sp>
                <p:nvSpPr>
                  <p:cNvPr id="186" name="Oval 67"/>
                  <p:cNvSpPr/>
                  <p:nvPr/>
                </p:nvSpPr>
                <p:spPr>
                  <a:xfrm>
                    <a:off x="6534000" y="4262040"/>
                    <a:ext cx="1395000" cy="1296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Oval 68"/>
                  <p:cNvSpPr/>
                  <p:nvPr/>
                </p:nvSpPr>
                <p:spPr>
                  <a:xfrm>
                    <a:off x="6671160" y="4401000"/>
                    <a:ext cx="1120320" cy="1019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b2b2b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Rectangle 69"/>
                  <p:cNvSpPr/>
                  <p:nvPr/>
                </p:nvSpPr>
                <p:spPr>
                  <a:xfrm>
                    <a:off x="7163640" y="4121280"/>
                    <a:ext cx="135360" cy="1646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Oval 78"/>
                  <p:cNvSpPr/>
                  <p:nvPr/>
                </p:nvSpPr>
                <p:spPr>
                  <a:xfrm>
                    <a:off x="7190640" y="4864680"/>
                    <a:ext cx="54000" cy="56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112"/>
                  <p:cNvSpPr/>
                  <p:nvPr/>
                </p:nvSpPr>
                <p:spPr>
                  <a:xfrm>
                    <a:off x="7207560" y="5752440"/>
                    <a:ext cx="1054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00">
                        <a:moveTo>
                          <a:pt x="90" y="0"/>
                        </a:moveTo>
                        <a:cubicBezTo>
                          <a:pt x="114" y="71"/>
                          <a:pt x="47" y="189"/>
                          <a:pt x="145" y="156"/>
                        </a:cubicBezTo>
                        <a:cubicBezTo>
                          <a:pt x="190" y="171"/>
                          <a:pt x="197" y="189"/>
                          <a:pt x="212" y="233"/>
                        </a:cubicBezTo>
                        <a:cubicBezTo>
                          <a:pt x="208" y="248"/>
                          <a:pt x="213" y="268"/>
                          <a:pt x="201" y="278"/>
                        </a:cubicBezTo>
                        <a:cubicBezTo>
                          <a:pt x="183" y="293"/>
                          <a:pt x="134" y="300"/>
                          <a:pt x="134" y="300"/>
                        </a:cubicBezTo>
                        <a:cubicBezTo>
                          <a:pt x="104" y="296"/>
                          <a:pt x="73" y="300"/>
                          <a:pt x="45" y="289"/>
                        </a:cubicBezTo>
                        <a:cubicBezTo>
                          <a:pt x="0" y="271"/>
                          <a:pt x="40" y="239"/>
                          <a:pt x="12" y="267"/>
                        </a:cubicBezTo>
                      </a:path>
                    </a:pathLst>
                  </a:custGeom>
                  <a:noFill/>
                  <a:ln w="3816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12"/>
                  <p:cNvSpPr/>
                  <p:nvPr/>
                </p:nvSpPr>
                <p:spPr>
                  <a:xfrm flipV="1">
                    <a:off x="7160400" y="3951360"/>
                    <a:ext cx="10476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00">
                        <a:moveTo>
                          <a:pt x="90" y="0"/>
                        </a:moveTo>
                        <a:cubicBezTo>
                          <a:pt x="114" y="71"/>
                          <a:pt x="47" y="189"/>
                          <a:pt x="145" y="156"/>
                        </a:cubicBezTo>
                        <a:cubicBezTo>
                          <a:pt x="190" y="171"/>
                          <a:pt x="197" y="189"/>
                          <a:pt x="212" y="233"/>
                        </a:cubicBezTo>
                        <a:cubicBezTo>
                          <a:pt x="208" y="248"/>
                          <a:pt x="213" y="268"/>
                          <a:pt x="201" y="278"/>
                        </a:cubicBezTo>
                        <a:cubicBezTo>
                          <a:pt x="183" y="293"/>
                          <a:pt x="134" y="300"/>
                          <a:pt x="134" y="300"/>
                        </a:cubicBezTo>
                        <a:cubicBezTo>
                          <a:pt x="104" y="296"/>
                          <a:pt x="73" y="300"/>
                          <a:pt x="45" y="289"/>
                        </a:cubicBezTo>
                        <a:cubicBezTo>
                          <a:pt x="0" y="271"/>
                          <a:pt x="40" y="239"/>
                          <a:pt x="12" y="267"/>
                        </a:cubicBezTo>
                      </a:path>
                    </a:pathLst>
                  </a:custGeom>
                  <a:noFill/>
                  <a:ln w="3816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Line 117"/>
                <p:cNvSpPr/>
                <p:nvPr/>
              </p:nvSpPr>
              <p:spPr>
                <a:xfrm flipV="1">
                  <a:off x="7931160" y="4311720"/>
                  <a:ext cx="0" cy="5968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round/>
                  <a:headEnd len="sm" type="oval" w="sm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Text Box 118"/>
                <p:cNvSpPr/>
                <p:nvPr/>
              </p:nvSpPr>
              <p:spPr>
                <a:xfrm>
                  <a:off x="7165800" y="5886720"/>
                  <a:ext cx="792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cc0000"/>
                      </a:solidFill>
                      <a:latin typeface="Times New Roman"/>
                    </a:rPr>
                    <a:t>F</a:t>
                  </a:r>
                  <a:r>
                    <a:rPr b="1" lang="en-US" sz="24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19"/>
                <p:cNvSpPr/>
                <p:nvPr/>
              </p:nvSpPr>
              <p:spPr>
                <a:xfrm>
                  <a:off x="7210440" y="4851720"/>
                  <a:ext cx="0" cy="1170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round/>
                  <a:headEnd len="sm" type="oval" w="sm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122"/>
                <p:cNvSpPr/>
                <p:nvPr/>
              </p:nvSpPr>
              <p:spPr>
                <a:xfrm rot="16200000">
                  <a:off x="6800040" y="4694760"/>
                  <a:ext cx="142920" cy="601560"/>
                </a:xfrm>
                <a:custGeom>
                  <a:avLst/>
                  <a:gdLst>
                    <a:gd name="textAreaLeft" fmla="*/ 91440 w 142920"/>
                    <a:gd name="textAreaRight" fmla="*/ 143280 w 142920"/>
                    <a:gd name="textAreaTop" fmla="*/ 15480 h 601560"/>
                    <a:gd name="textAreaBottom" fmla="*/ 586080 h 601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897"/>
                        <a:pt x="10800" y="1794"/>
                      </a:cubicBezTo>
                      <a:lnTo>
                        <a:pt x="10800" y="10355"/>
                      </a:lnTo>
                      <a:cubicBezTo>
                        <a:pt x="10800" y="11252"/>
                        <a:pt x="5400" y="12149"/>
                        <a:pt x="0" y="12149"/>
                      </a:cubicBezTo>
                      <a:cubicBezTo>
                        <a:pt x="5400" y="12149"/>
                        <a:pt x="10800" y="13046"/>
                        <a:pt x="10800" y="13943"/>
                      </a:cubicBezTo>
                      <a:lnTo>
                        <a:pt x="10800" y="19806"/>
                      </a:lnTo>
                      <a:cubicBezTo>
                        <a:pt x="10800" y="20703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381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123"/>
                <p:cNvSpPr/>
                <p:nvPr/>
              </p:nvSpPr>
              <p:spPr>
                <a:xfrm>
                  <a:off x="6761160" y="4986360"/>
                  <a:ext cx="5763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l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126"/>
                <p:cNvSpPr/>
                <p:nvPr/>
              </p:nvSpPr>
              <p:spPr>
                <a:xfrm>
                  <a:off x="7219800" y="4243680"/>
                  <a:ext cx="5763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l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Text Box 116"/>
                <p:cNvSpPr/>
                <p:nvPr/>
              </p:nvSpPr>
              <p:spPr>
                <a:xfrm>
                  <a:off x="6130800" y="44467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AutoShape 125"/>
                <p:cNvSpPr/>
                <p:nvPr/>
              </p:nvSpPr>
              <p:spPr>
                <a:xfrm flipH="1" flipV="1" rot="5400000">
                  <a:off x="7111080" y="4077720"/>
                  <a:ext cx="179280" cy="1349280"/>
                </a:xfrm>
                <a:custGeom>
                  <a:avLst/>
                  <a:gdLst>
                    <a:gd name="textAreaLeft" fmla="*/ 0 w 179280"/>
                    <a:gd name="textAreaRight" fmla="*/ 64800 w 179280"/>
                    <a:gd name="textAreaTop" fmla="*/ 34920 h 1349280"/>
                    <a:gd name="textAreaBottom" fmla="*/ 1314360 h 1349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897"/>
                        <a:pt x="10800" y="1794"/>
                      </a:cubicBezTo>
                      <a:lnTo>
                        <a:pt x="10800" y="9006"/>
                      </a:lnTo>
                      <a:cubicBezTo>
                        <a:pt x="10800" y="9903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697"/>
                        <a:pt x="10800" y="12594"/>
                      </a:cubicBezTo>
                      <a:lnTo>
                        <a:pt x="10800" y="19806"/>
                      </a:lnTo>
                      <a:cubicBezTo>
                        <a:pt x="10800" y="20703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284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58"/>
                <p:cNvSpPr/>
                <p:nvPr/>
              </p:nvSpPr>
              <p:spPr>
                <a:xfrm>
                  <a:off x="6535800" y="4897440"/>
                  <a:ext cx="13935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dash"/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566640" y="1089000"/>
            <a:ext cx="6391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滑轮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拉力大小与重力大小的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滑轮和重物由几段绳子承重，拉力就是总重的几分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拉力与重物移动距离的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绳子自由端移动的距离是重物移动距离的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　　　　　　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Object 4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2792520" cy="99216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5"/>
          <p:cNvGrpSpPr/>
          <p:nvPr/>
        </p:nvGrpSpPr>
        <p:grpSpPr>
          <a:xfrm>
            <a:off x="7343640" y="1773360"/>
            <a:ext cx="648000" cy="3339720"/>
            <a:chOff x="7343640" y="1773360"/>
            <a:chExt cx="648000" cy="3339720"/>
          </a:xfrm>
        </p:grpSpPr>
        <p:grpSp>
          <p:nvGrpSpPr>
            <p:cNvPr id="204" name="Group 6"/>
            <p:cNvGrpSpPr/>
            <p:nvPr/>
          </p:nvGrpSpPr>
          <p:grpSpPr>
            <a:xfrm>
              <a:off x="7488360" y="4438800"/>
              <a:ext cx="433440" cy="674280"/>
              <a:chOff x="7488360" y="4438800"/>
              <a:chExt cx="433440" cy="674280"/>
            </a:xfrm>
          </p:grpSpPr>
          <p:grpSp>
            <p:nvGrpSpPr>
              <p:cNvPr id="205" name="Group 7"/>
              <p:cNvGrpSpPr/>
              <p:nvPr/>
            </p:nvGrpSpPr>
            <p:grpSpPr>
              <a:xfrm>
                <a:off x="7488360" y="4573440"/>
                <a:ext cx="433440" cy="539640"/>
                <a:chOff x="7488360" y="4573440"/>
                <a:chExt cx="433440" cy="539640"/>
              </a:xfrm>
            </p:grpSpPr>
            <p:sp>
              <p:nvSpPr>
                <p:cNvPr id="206" name="Freeform 169"/>
                <p:cNvSpPr/>
                <p:nvPr/>
              </p:nvSpPr>
              <p:spPr>
                <a:xfrm flipH="1" flipV="1">
                  <a:off x="7630560" y="4573080"/>
                  <a:ext cx="102240" cy="115560"/>
                </a:xfrm>
                <a:custGeom>
                  <a:avLst/>
                  <a:gdLst/>
                  <a:ahLst/>
                  <a:rect l="l" t="t" r="r" b="b"/>
                  <a:pathLst>
                    <a:path w="2020" h="2594">
                      <a:moveTo>
                        <a:pt x="472" y="15"/>
                      </a:moveTo>
                      <a:cubicBezTo>
                        <a:pt x="472" y="107"/>
                        <a:pt x="477" y="387"/>
                        <a:pt x="472" y="552"/>
                      </a:cubicBezTo>
                      <a:cubicBezTo>
                        <a:pt x="467" y="717"/>
                        <a:pt x="480" y="887"/>
                        <a:pt x="442" y="1005"/>
                      </a:cubicBezTo>
                      <a:cubicBezTo>
                        <a:pt x="404" y="1123"/>
                        <a:pt x="302" y="1180"/>
                        <a:pt x="247" y="1260"/>
                      </a:cubicBezTo>
                      <a:cubicBezTo>
                        <a:pt x="192" y="1340"/>
                        <a:pt x="152" y="1398"/>
                        <a:pt x="112" y="1488"/>
                      </a:cubicBezTo>
                      <a:cubicBezTo>
                        <a:pt x="72" y="1578"/>
                        <a:pt x="14" y="1706"/>
                        <a:pt x="7" y="1800"/>
                      </a:cubicBezTo>
                      <a:cubicBezTo>
                        <a:pt x="0" y="1894"/>
                        <a:pt x="25" y="1968"/>
                        <a:pt x="67" y="2055"/>
                      </a:cubicBezTo>
                      <a:cubicBezTo>
                        <a:pt x="109" y="2142"/>
                        <a:pt x="165" y="2245"/>
                        <a:pt x="262" y="2325"/>
                      </a:cubicBezTo>
                      <a:cubicBezTo>
                        <a:pt x="359" y="2405"/>
                        <a:pt x="515" y="2498"/>
                        <a:pt x="652" y="2535"/>
                      </a:cubicBezTo>
                      <a:cubicBezTo>
                        <a:pt x="789" y="2572"/>
                        <a:pt x="937" y="2594"/>
                        <a:pt x="1087" y="2550"/>
                      </a:cubicBezTo>
                      <a:cubicBezTo>
                        <a:pt x="1237" y="2506"/>
                        <a:pt x="1440" y="2366"/>
                        <a:pt x="1552" y="2268"/>
                      </a:cubicBezTo>
                      <a:cubicBezTo>
                        <a:pt x="1664" y="2170"/>
                        <a:pt x="1702" y="2069"/>
                        <a:pt x="1762" y="1965"/>
                      </a:cubicBezTo>
                      <a:cubicBezTo>
                        <a:pt x="1822" y="1861"/>
                        <a:pt x="1872" y="1759"/>
                        <a:pt x="1912" y="1644"/>
                      </a:cubicBezTo>
                      <a:cubicBezTo>
                        <a:pt x="1952" y="1529"/>
                        <a:pt x="2020" y="1309"/>
                        <a:pt x="2002" y="1275"/>
                      </a:cubicBezTo>
                      <a:cubicBezTo>
                        <a:pt x="1984" y="1241"/>
                        <a:pt x="1874" y="1355"/>
                        <a:pt x="1807" y="1440"/>
                      </a:cubicBezTo>
                      <a:cubicBezTo>
                        <a:pt x="1740" y="1525"/>
                        <a:pt x="1669" y="1690"/>
                        <a:pt x="1597" y="1785"/>
                      </a:cubicBezTo>
                      <a:cubicBezTo>
                        <a:pt x="1525" y="1880"/>
                        <a:pt x="1442" y="1953"/>
                        <a:pt x="1372" y="2010"/>
                      </a:cubicBezTo>
                      <a:cubicBezTo>
                        <a:pt x="1302" y="2067"/>
                        <a:pt x="1257" y="2113"/>
                        <a:pt x="1177" y="2130"/>
                      </a:cubicBezTo>
                      <a:cubicBezTo>
                        <a:pt x="1097" y="2147"/>
                        <a:pt x="982" y="2147"/>
                        <a:pt x="892" y="2115"/>
                      </a:cubicBezTo>
                      <a:cubicBezTo>
                        <a:pt x="802" y="2083"/>
                        <a:pt x="677" y="2022"/>
                        <a:pt x="637" y="1935"/>
                      </a:cubicBezTo>
                      <a:cubicBezTo>
                        <a:pt x="597" y="1848"/>
                        <a:pt x="612" y="1702"/>
                        <a:pt x="652" y="1590"/>
                      </a:cubicBezTo>
                      <a:cubicBezTo>
                        <a:pt x="692" y="1478"/>
                        <a:pt x="817" y="1355"/>
                        <a:pt x="877" y="1260"/>
                      </a:cubicBezTo>
                      <a:cubicBezTo>
                        <a:pt x="937" y="1165"/>
                        <a:pt x="990" y="1112"/>
                        <a:pt x="1012" y="1020"/>
                      </a:cubicBezTo>
                      <a:cubicBezTo>
                        <a:pt x="1034" y="928"/>
                        <a:pt x="1012" y="786"/>
                        <a:pt x="1012" y="708"/>
                      </a:cubicBezTo>
                      <a:cubicBezTo>
                        <a:pt x="1012" y="630"/>
                        <a:pt x="1012" y="670"/>
                        <a:pt x="1012" y="552"/>
                      </a:cubicBezTo>
                      <a:cubicBezTo>
                        <a:pt x="1012" y="434"/>
                        <a:pt x="1012" y="115"/>
                        <a:pt x="1012" y="0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170"/>
                <p:cNvSpPr/>
                <p:nvPr/>
              </p:nvSpPr>
              <p:spPr>
                <a:xfrm>
                  <a:off x="7488360" y="4697280"/>
                  <a:ext cx="433440" cy="41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c0c0c0"/>
                    </a:gs>
                    <a:gs pos="100000">
                      <a:srgbClr val="333333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Line 10"/>
              <p:cNvSpPr/>
              <p:nvPr/>
            </p:nvSpPr>
            <p:spPr>
              <a:xfrm>
                <a:off x="7694640" y="4438800"/>
                <a:ext cx="0" cy="179280"/>
              </a:xfrm>
              <a:prstGeom prst="line">
                <a:avLst/>
              </a:prstGeom>
              <a:ln w="284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11"/>
            <p:cNvGrpSpPr/>
            <p:nvPr/>
          </p:nvGrpSpPr>
          <p:grpSpPr>
            <a:xfrm>
              <a:off x="7343640" y="1773360"/>
              <a:ext cx="648000" cy="2701800"/>
              <a:chOff x="7343640" y="1773360"/>
              <a:chExt cx="648000" cy="2701800"/>
            </a:xfrm>
          </p:grpSpPr>
          <p:sp>
            <p:nvSpPr>
              <p:cNvPr id="210" name="Line 164"/>
              <p:cNvSpPr/>
              <p:nvPr/>
            </p:nvSpPr>
            <p:spPr>
              <a:xfrm>
                <a:off x="7451640" y="3214800"/>
                <a:ext cx="1800" cy="825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65"/>
              <p:cNvSpPr/>
              <p:nvPr/>
            </p:nvSpPr>
            <p:spPr>
              <a:xfrm flipH="1">
                <a:off x="7919640" y="2314800"/>
                <a:ext cx="9720" cy="165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166"/>
              <p:cNvSpPr/>
              <p:nvPr/>
            </p:nvSpPr>
            <p:spPr>
              <a:xfrm>
                <a:off x="7451640" y="2314800"/>
                <a:ext cx="241560" cy="127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Group 15"/>
              <p:cNvGrpSpPr/>
              <p:nvPr/>
            </p:nvGrpSpPr>
            <p:grpSpPr>
              <a:xfrm>
                <a:off x="7343640" y="1773360"/>
                <a:ext cx="648000" cy="1044000"/>
                <a:chOff x="7343640" y="1773360"/>
                <a:chExt cx="648000" cy="1044000"/>
              </a:xfrm>
            </p:grpSpPr>
            <p:grpSp>
              <p:nvGrpSpPr>
                <p:cNvPr id="214" name="Group 16"/>
                <p:cNvGrpSpPr/>
                <p:nvPr/>
              </p:nvGrpSpPr>
              <p:grpSpPr>
                <a:xfrm>
                  <a:off x="7436160" y="1837440"/>
                  <a:ext cx="524160" cy="979920"/>
                  <a:chOff x="7436160" y="1837440"/>
                  <a:chExt cx="524160" cy="979920"/>
                </a:xfrm>
              </p:grpSpPr>
              <p:grpSp>
                <p:nvGrpSpPr>
                  <p:cNvPr id="215" name="Group 17"/>
                  <p:cNvGrpSpPr/>
                  <p:nvPr/>
                </p:nvGrpSpPr>
                <p:grpSpPr>
                  <a:xfrm>
                    <a:off x="7436160" y="2072160"/>
                    <a:ext cx="524160" cy="498600"/>
                    <a:chOff x="7436160" y="2072160"/>
                    <a:chExt cx="524160" cy="498600"/>
                  </a:xfrm>
                </p:grpSpPr>
                <p:sp>
                  <p:nvSpPr>
                    <p:cNvPr id="216" name="Oval 18"/>
                    <p:cNvSpPr/>
                    <p:nvPr/>
                  </p:nvSpPr>
                  <p:spPr>
                    <a:xfrm>
                      <a:off x="7436160" y="2072160"/>
                      <a:ext cx="524160" cy="498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f8f8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Oval 19"/>
                    <p:cNvSpPr/>
                    <p:nvPr/>
                  </p:nvSpPr>
                  <p:spPr>
                    <a:xfrm>
                      <a:off x="7508880" y="2141280"/>
                      <a:ext cx="378720" cy="360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27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Oval 20"/>
                    <p:cNvSpPr/>
                    <p:nvPr/>
                  </p:nvSpPr>
                  <p:spPr>
                    <a:xfrm>
                      <a:off x="7581600" y="2210400"/>
                      <a:ext cx="232920" cy="221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969696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Oval 21"/>
                    <p:cNvSpPr/>
                    <p:nvPr/>
                  </p:nvSpPr>
                  <p:spPr>
                    <a:xfrm>
                      <a:off x="7654680" y="2279880"/>
                      <a:ext cx="87120" cy="83160"/>
                    </a:xfrm>
                    <a:prstGeom prst="ellipse">
                      <a:avLst/>
                    </a:prstGeom>
                    <a:solidFill>
                      <a:srgbClr val="333333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0" name="Group 22"/>
                  <p:cNvGrpSpPr/>
                  <p:nvPr/>
                </p:nvGrpSpPr>
                <p:grpSpPr>
                  <a:xfrm>
                    <a:off x="7607880" y="1837440"/>
                    <a:ext cx="176760" cy="979920"/>
                    <a:chOff x="7607880" y="1837440"/>
                    <a:chExt cx="176760" cy="979920"/>
                  </a:xfrm>
                </p:grpSpPr>
                <p:sp>
                  <p:nvSpPr>
                    <p:cNvPr id="221" name="Freeform 23"/>
                    <p:cNvSpPr/>
                    <p:nvPr/>
                  </p:nvSpPr>
                  <p:spPr>
                    <a:xfrm>
                      <a:off x="7657560" y="2694240"/>
                      <a:ext cx="104400" cy="12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0" h="2594">
                          <a:moveTo>
                            <a:pt x="472" y="15"/>
                          </a:moveTo>
                          <a:cubicBezTo>
                            <a:pt x="472" y="107"/>
                            <a:pt x="477" y="387"/>
                            <a:pt x="472" y="552"/>
                          </a:cubicBezTo>
                          <a:cubicBezTo>
                            <a:pt x="467" y="717"/>
                            <a:pt x="480" y="887"/>
                            <a:pt x="442" y="1005"/>
                          </a:cubicBezTo>
                          <a:cubicBezTo>
                            <a:pt x="404" y="1123"/>
                            <a:pt x="302" y="1180"/>
                            <a:pt x="247" y="1260"/>
                          </a:cubicBezTo>
                          <a:cubicBezTo>
                            <a:pt x="192" y="1340"/>
                            <a:pt x="152" y="1398"/>
                            <a:pt x="112" y="1488"/>
                          </a:cubicBezTo>
                          <a:cubicBezTo>
                            <a:pt x="72" y="1578"/>
                            <a:pt x="14" y="1706"/>
                            <a:pt x="7" y="1800"/>
                          </a:cubicBezTo>
                          <a:cubicBezTo>
                            <a:pt x="0" y="1894"/>
                            <a:pt x="25" y="1968"/>
                            <a:pt x="67" y="2055"/>
                          </a:cubicBezTo>
                          <a:cubicBezTo>
                            <a:pt x="109" y="2142"/>
                            <a:pt x="165" y="2245"/>
                            <a:pt x="262" y="2325"/>
                          </a:cubicBezTo>
                          <a:cubicBezTo>
                            <a:pt x="359" y="2405"/>
                            <a:pt x="515" y="2498"/>
                            <a:pt x="652" y="2535"/>
                          </a:cubicBezTo>
                          <a:cubicBezTo>
                            <a:pt x="789" y="2572"/>
                            <a:pt x="937" y="2594"/>
                            <a:pt x="1087" y="2550"/>
                          </a:cubicBezTo>
                          <a:cubicBezTo>
                            <a:pt x="1237" y="2506"/>
                            <a:pt x="1440" y="2366"/>
                            <a:pt x="1552" y="2268"/>
                          </a:cubicBezTo>
                          <a:cubicBezTo>
                            <a:pt x="1664" y="2170"/>
                            <a:pt x="1702" y="2069"/>
                            <a:pt x="1762" y="1965"/>
                          </a:cubicBezTo>
                          <a:cubicBezTo>
                            <a:pt x="1822" y="1861"/>
                            <a:pt x="1872" y="1759"/>
                            <a:pt x="1912" y="1644"/>
                          </a:cubicBezTo>
                          <a:cubicBezTo>
                            <a:pt x="1952" y="1529"/>
                            <a:pt x="2020" y="1309"/>
                            <a:pt x="2002" y="1275"/>
                          </a:cubicBezTo>
                          <a:cubicBezTo>
                            <a:pt x="1984" y="1241"/>
                            <a:pt x="1874" y="1355"/>
                            <a:pt x="1807" y="1440"/>
                          </a:cubicBezTo>
                          <a:cubicBezTo>
                            <a:pt x="1740" y="1525"/>
                            <a:pt x="1669" y="1690"/>
                            <a:pt x="1597" y="1785"/>
                          </a:cubicBezTo>
                          <a:cubicBezTo>
                            <a:pt x="1525" y="1880"/>
                            <a:pt x="1442" y="1953"/>
                            <a:pt x="1372" y="2010"/>
                          </a:cubicBezTo>
                          <a:cubicBezTo>
                            <a:pt x="1302" y="2067"/>
                            <a:pt x="1257" y="2113"/>
                            <a:pt x="1177" y="2130"/>
                          </a:cubicBezTo>
                          <a:cubicBezTo>
                            <a:pt x="1097" y="2147"/>
                            <a:pt x="982" y="2147"/>
                            <a:pt x="892" y="2115"/>
                          </a:cubicBezTo>
                          <a:cubicBezTo>
                            <a:pt x="802" y="2083"/>
                            <a:pt x="677" y="2022"/>
                            <a:pt x="637" y="1935"/>
                          </a:cubicBezTo>
                          <a:cubicBezTo>
                            <a:pt x="597" y="1848"/>
                            <a:pt x="612" y="1702"/>
                            <a:pt x="652" y="1590"/>
                          </a:cubicBezTo>
                          <a:cubicBezTo>
                            <a:pt x="692" y="1478"/>
                            <a:pt x="817" y="1355"/>
                            <a:pt x="877" y="1260"/>
                          </a:cubicBezTo>
                          <a:cubicBezTo>
                            <a:pt x="937" y="1165"/>
                            <a:pt x="990" y="1112"/>
                            <a:pt x="1012" y="1020"/>
                          </a:cubicBezTo>
                          <a:cubicBezTo>
                            <a:pt x="1034" y="928"/>
                            <a:pt x="1012" y="786"/>
                            <a:pt x="1012" y="708"/>
                          </a:cubicBezTo>
                          <a:cubicBezTo>
                            <a:pt x="1012" y="630"/>
                            <a:pt x="1012" y="670"/>
                            <a:pt x="1012" y="552"/>
                          </a:cubicBezTo>
                          <a:cubicBezTo>
                            <a:pt x="1012" y="434"/>
                            <a:pt x="1012" y="115"/>
                            <a:pt x="1012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2" name="Group 24"/>
                    <p:cNvGrpSpPr/>
                    <p:nvPr/>
                  </p:nvGrpSpPr>
                  <p:grpSpPr>
                    <a:xfrm>
                      <a:off x="7607880" y="1943640"/>
                      <a:ext cx="176760" cy="757080"/>
                      <a:chOff x="7607880" y="1943640"/>
                      <a:chExt cx="176760" cy="757080"/>
                    </a:xfrm>
                  </p:grpSpPr>
                  <p:sp>
                    <p:nvSpPr>
                      <p:cNvPr id="223" name="AutoShape 25"/>
                      <p:cNvSpPr/>
                      <p:nvPr/>
                    </p:nvSpPr>
                    <p:spPr>
                      <a:xfrm>
                        <a:off x="7607880" y="2320560"/>
                        <a:ext cx="176760" cy="38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7515" y="21600"/>
                            </a:lnTo>
                            <a:lnTo>
                              <a:pt x="14085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969696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4" name="AutoShape 26"/>
                      <p:cNvSpPr/>
                      <p:nvPr/>
                    </p:nvSpPr>
                    <p:spPr>
                      <a:xfrm flipV="1">
                        <a:off x="7607880" y="1943640"/>
                        <a:ext cx="176760" cy="38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7515" y="21600"/>
                            </a:lnTo>
                            <a:lnTo>
                              <a:pt x="14085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969696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25" name="Oval 27"/>
                    <p:cNvSpPr/>
                    <p:nvPr/>
                  </p:nvSpPr>
                  <p:spPr>
                    <a:xfrm>
                      <a:off x="7669440" y="2293920"/>
                      <a:ext cx="61560" cy="60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Oval 28"/>
                    <p:cNvSpPr/>
                    <p:nvPr/>
                  </p:nvSpPr>
                  <p:spPr>
                    <a:xfrm>
                      <a:off x="7662600" y="2630160"/>
                      <a:ext cx="61560" cy="60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29"/>
                    <p:cNvSpPr/>
                    <p:nvPr/>
                  </p:nvSpPr>
                  <p:spPr>
                    <a:xfrm flipH="1" flipV="1">
                      <a:off x="7630200" y="1837440"/>
                      <a:ext cx="104400" cy="12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0" h="2594">
                          <a:moveTo>
                            <a:pt x="472" y="15"/>
                          </a:moveTo>
                          <a:cubicBezTo>
                            <a:pt x="472" y="107"/>
                            <a:pt x="477" y="387"/>
                            <a:pt x="472" y="552"/>
                          </a:cubicBezTo>
                          <a:cubicBezTo>
                            <a:pt x="467" y="717"/>
                            <a:pt x="480" y="887"/>
                            <a:pt x="442" y="1005"/>
                          </a:cubicBezTo>
                          <a:cubicBezTo>
                            <a:pt x="404" y="1123"/>
                            <a:pt x="302" y="1180"/>
                            <a:pt x="247" y="1260"/>
                          </a:cubicBezTo>
                          <a:cubicBezTo>
                            <a:pt x="192" y="1340"/>
                            <a:pt x="152" y="1398"/>
                            <a:pt x="112" y="1488"/>
                          </a:cubicBezTo>
                          <a:cubicBezTo>
                            <a:pt x="72" y="1578"/>
                            <a:pt x="14" y="1706"/>
                            <a:pt x="7" y="1800"/>
                          </a:cubicBezTo>
                          <a:cubicBezTo>
                            <a:pt x="0" y="1894"/>
                            <a:pt x="25" y="1968"/>
                            <a:pt x="67" y="2055"/>
                          </a:cubicBezTo>
                          <a:cubicBezTo>
                            <a:pt x="109" y="2142"/>
                            <a:pt x="165" y="2245"/>
                            <a:pt x="262" y="2325"/>
                          </a:cubicBezTo>
                          <a:cubicBezTo>
                            <a:pt x="359" y="2405"/>
                            <a:pt x="515" y="2498"/>
                            <a:pt x="652" y="2535"/>
                          </a:cubicBezTo>
                          <a:cubicBezTo>
                            <a:pt x="789" y="2572"/>
                            <a:pt x="937" y="2594"/>
                            <a:pt x="1087" y="2550"/>
                          </a:cubicBezTo>
                          <a:cubicBezTo>
                            <a:pt x="1237" y="2506"/>
                            <a:pt x="1440" y="2366"/>
                            <a:pt x="1552" y="2268"/>
                          </a:cubicBezTo>
                          <a:cubicBezTo>
                            <a:pt x="1664" y="2170"/>
                            <a:pt x="1702" y="2069"/>
                            <a:pt x="1762" y="1965"/>
                          </a:cubicBezTo>
                          <a:cubicBezTo>
                            <a:pt x="1822" y="1861"/>
                            <a:pt x="1872" y="1759"/>
                            <a:pt x="1912" y="1644"/>
                          </a:cubicBezTo>
                          <a:cubicBezTo>
                            <a:pt x="1952" y="1529"/>
                            <a:pt x="2020" y="1309"/>
                            <a:pt x="2002" y="1275"/>
                          </a:cubicBezTo>
                          <a:cubicBezTo>
                            <a:pt x="1984" y="1241"/>
                            <a:pt x="1874" y="1355"/>
                            <a:pt x="1807" y="1440"/>
                          </a:cubicBezTo>
                          <a:cubicBezTo>
                            <a:pt x="1740" y="1525"/>
                            <a:pt x="1669" y="1690"/>
                            <a:pt x="1597" y="1785"/>
                          </a:cubicBezTo>
                          <a:cubicBezTo>
                            <a:pt x="1525" y="1880"/>
                            <a:pt x="1442" y="1953"/>
                            <a:pt x="1372" y="2010"/>
                          </a:cubicBezTo>
                          <a:cubicBezTo>
                            <a:pt x="1302" y="2067"/>
                            <a:pt x="1257" y="2113"/>
                            <a:pt x="1177" y="2130"/>
                          </a:cubicBezTo>
                          <a:cubicBezTo>
                            <a:pt x="1097" y="2147"/>
                            <a:pt x="982" y="2147"/>
                            <a:pt x="892" y="2115"/>
                          </a:cubicBezTo>
                          <a:cubicBezTo>
                            <a:pt x="802" y="2083"/>
                            <a:pt x="677" y="2022"/>
                            <a:pt x="637" y="1935"/>
                          </a:cubicBezTo>
                          <a:cubicBezTo>
                            <a:pt x="597" y="1848"/>
                            <a:pt x="612" y="1702"/>
                            <a:pt x="652" y="1590"/>
                          </a:cubicBezTo>
                          <a:cubicBezTo>
                            <a:pt x="692" y="1478"/>
                            <a:pt x="817" y="1355"/>
                            <a:pt x="877" y="1260"/>
                          </a:cubicBezTo>
                          <a:cubicBezTo>
                            <a:pt x="937" y="1165"/>
                            <a:pt x="990" y="1112"/>
                            <a:pt x="1012" y="1020"/>
                          </a:cubicBezTo>
                          <a:cubicBezTo>
                            <a:pt x="1034" y="928"/>
                            <a:pt x="1012" y="786"/>
                            <a:pt x="1012" y="708"/>
                          </a:cubicBezTo>
                          <a:cubicBezTo>
                            <a:pt x="1012" y="630"/>
                            <a:pt x="1012" y="670"/>
                            <a:pt x="1012" y="552"/>
                          </a:cubicBezTo>
                          <a:cubicBezTo>
                            <a:pt x="1012" y="434"/>
                            <a:pt x="1012" y="115"/>
                            <a:pt x="1012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Oval 30"/>
                    <p:cNvSpPr/>
                    <p:nvPr/>
                  </p:nvSpPr>
                  <p:spPr>
                    <a:xfrm>
                      <a:off x="7662960" y="1950480"/>
                      <a:ext cx="61560" cy="60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9" name="Group 31"/>
                <p:cNvGrpSpPr/>
                <p:nvPr/>
              </p:nvGrpSpPr>
              <p:grpSpPr>
                <a:xfrm>
                  <a:off x="7343640" y="1773360"/>
                  <a:ext cx="648000" cy="94680"/>
                  <a:chOff x="7343640" y="1773360"/>
                  <a:chExt cx="648000" cy="94680"/>
                </a:xfrm>
              </p:grpSpPr>
              <p:sp>
                <p:nvSpPr>
                  <p:cNvPr id="230" name="Rectangle 32"/>
                  <p:cNvSpPr/>
                  <p:nvPr/>
                </p:nvSpPr>
                <p:spPr>
                  <a:xfrm>
                    <a:off x="7343640" y="1773360"/>
                    <a:ext cx="613080" cy="9468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33"/>
                  <p:cNvSpPr/>
                  <p:nvPr/>
                </p:nvSpPr>
                <p:spPr>
                  <a:xfrm>
                    <a:off x="7343640" y="1868040"/>
                    <a:ext cx="648000" cy="0"/>
                  </a:xfrm>
                  <a:prstGeom prst="line">
                    <a:avLst/>
                  </a:prstGeom>
                  <a:ln w="2844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2" name="Group 34"/>
              <p:cNvGrpSpPr/>
              <p:nvPr/>
            </p:nvGrpSpPr>
            <p:grpSpPr>
              <a:xfrm>
                <a:off x="7451640" y="3538440"/>
                <a:ext cx="505080" cy="936720"/>
                <a:chOff x="7451640" y="3538440"/>
                <a:chExt cx="505080" cy="936720"/>
              </a:xfrm>
            </p:grpSpPr>
            <p:grpSp>
              <p:nvGrpSpPr>
                <p:cNvPr id="233" name="Group 35"/>
                <p:cNvGrpSpPr/>
                <p:nvPr/>
              </p:nvGrpSpPr>
              <p:grpSpPr>
                <a:xfrm>
                  <a:off x="7451640" y="3763080"/>
                  <a:ext cx="505080" cy="476280"/>
                  <a:chOff x="7451640" y="3763080"/>
                  <a:chExt cx="505080" cy="476280"/>
                </a:xfrm>
              </p:grpSpPr>
              <p:sp>
                <p:nvSpPr>
                  <p:cNvPr id="234" name="Oval 36"/>
                  <p:cNvSpPr/>
                  <p:nvPr/>
                </p:nvSpPr>
                <p:spPr>
                  <a:xfrm>
                    <a:off x="7451640" y="3763080"/>
                    <a:ext cx="505080" cy="476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f8f8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Oval 37"/>
                  <p:cNvSpPr/>
                  <p:nvPr/>
                </p:nvSpPr>
                <p:spPr>
                  <a:xfrm>
                    <a:off x="7521480" y="3828960"/>
                    <a:ext cx="364680" cy="34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Oval 38"/>
                  <p:cNvSpPr/>
                  <p:nvPr/>
                </p:nvSpPr>
                <p:spPr>
                  <a:xfrm>
                    <a:off x="7591680" y="3895200"/>
                    <a:ext cx="224280" cy="211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39"/>
                  <p:cNvSpPr/>
                  <p:nvPr/>
                </p:nvSpPr>
                <p:spPr>
                  <a:xfrm>
                    <a:off x="7661880" y="3961440"/>
                    <a:ext cx="84240" cy="792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40"/>
                <p:cNvGrpSpPr/>
                <p:nvPr/>
              </p:nvGrpSpPr>
              <p:grpSpPr>
                <a:xfrm>
                  <a:off x="7617240" y="3538440"/>
                  <a:ext cx="170640" cy="936720"/>
                  <a:chOff x="7617240" y="3538440"/>
                  <a:chExt cx="170640" cy="936720"/>
                </a:xfrm>
              </p:grpSpPr>
              <p:sp>
                <p:nvSpPr>
                  <p:cNvPr id="239" name="Freeform 41"/>
                  <p:cNvSpPr/>
                  <p:nvPr/>
                </p:nvSpPr>
                <p:spPr>
                  <a:xfrm>
                    <a:off x="7665120" y="4357440"/>
                    <a:ext cx="10080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0" h="2594">
                        <a:moveTo>
                          <a:pt x="472" y="15"/>
                        </a:moveTo>
                        <a:cubicBezTo>
                          <a:pt x="472" y="107"/>
                          <a:pt x="477" y="387"/>
                          <a:pt x="472" y="552"/>
                        </a:cubicBezTo>
                        <a:cubicBezTo>
                          <a:pt x="467" y="717"/>
                          <a:pt x="480" y="887"/>
                          <a:pt x="442" y="1005"/>
                        </a:cubicBezTo>
                        <a:cubicBezTo>
                          <a:pt x="404" y="1123"/>
                          <a:pt x="302" y="1180"/>
                          <a:pt x="247" y="1260"/>
                        </a:cubicBezTo>
                        <a:cubicBezTo>
                          <a:pt x="192" y="1340"/>
                          <a:pt x="152" y="1398"/>
                          <a:pt x="112" y="1488"/>
                        </a:cubicBezTo>
                        <a:cubicBezTo>
                          <a:pt x="72" y="1578"/>
                          <a:pt x="14" y="1706"/>
                          <a:pt x="7" y="1800"/>
                        </a:cubicBezTo>
                        <a:cubicBezTo>
                          <a:pt x="0" y="1894"/>
                          <a:pt x="25" y="1968"/>
                          <a:pt x="67" y="2055"/>
                        </a:cubicBezTo>
                        <a:cubicBezTo>
                          <a:pt x="109" y="2142"/>
                          <a:pt x="165" y="2245"/>
                          <a:pt x="262" y="2325"/>
                        </a:cubicBezTo>
                        <a:cubicBezTo>
                          <a:pt x="359" y="2405"/>
                          <a:pt x="515" y="2498"/>
                          <a:pt x="652" y="2535"/>
                        </a:cubicBezTo>
                        <a:cubicBezTo>
                          <a:pt x="789" y="2572"/>
                          <a:pt x="937" y="2594"/>
                          <a:pt x="1087" y="2550"/>
                        </a:cubicBezTo>
                        <a:cubicBezTo>
                          <a:pt x="1237" y="2506"/>
                          <a:pt x="1440" y="2366"/>
                          <a:pt x="1552" y="2268"/>
                        </a:cubicBezTo>
                        <a:cubicBezTo>
                          <a:pt x="1664" y="2170"/>
                          <a:pt x="1702" y="2069"/>
                          <a:pt x="1762" y="1965"/>
                        </a:cubicBezTo>
                        <a:cubicBezTo>
                          <a:pt x="1822" y="1861"/>
                          <a:pt x="1872" y="1759"/>
                          <a:pt x="1912" y="1644"/>
                        </a:cubicBezTo>
                        <a:cubicBezTo>
                          <a:pt x="1952" y="1529"/>
                          <a:pt x="2020" y="1309"/>
                          <a:pt x="2002" y="1275"/>
                        </a:cubicBezTo>
                        <a:cubicBezTo>
                          <a:pt x="1984" y="1241"/>
                          <a:pt x="1874" y="1355"/>
                          <a:pt x="1807" y="1440"/>
                        </a:cubicBezTo>
                        <a:cubicBezTo>
                          <a:pt x="1740" y="1525"/>
                          <a:pt x="1669" y="1690"/>
                          <a:pt x="1597" y="1785"/>
                        </a:cubicBezTo>
                        <a:cubicBezTo>
                          <a:pt x="1525" y="1880"/>
                          <a:pt x="1442" y="1953"/>
                          <a:pt x="1372" y="2010"/>
                        </a:cubicBezTo>
                        <a:cubicBezTo>
                          <a:pt x="1302" y="2067"/>
                          <a:pt x="1257" y="2113"/>
                          <a:pt x="1177" y="2130"/>
                        </a:cubicBezTo>
                        <a:cubicBezTo>
                          <a:pt x="1097" y="2147"/>
                          <a:pt x="982" y="2147"/>
                          <a:pt x="892" y="2115"/>
                        </a:cubicBezTo>
                        <a:cubicBezTo>
                          <a:pt x="802" y="2083"/>
                          <a:pt x="677" y="2022"/>
                          <a:pt x="637" y="1935"/>
                        </a:cubicBezTo>
                        <a:cubicBezTo>
                          <a:pt x="597" y="1848"/>
                          <a:pt x="612" y="1702"/>
                          <a:pt x="652" y="1590"/>
                        </a:cubicBezTo>
                        <a:cubicBezTo>
                          <a:pt x="692" y="1478"/>
                          <a:pt x="817" y="1355"/>
                          <a:pt x="877" y="1260"/>
                        </a:cubicBezTo>
                        <a:cubicBezTo>
                          <a:pt x="937" y="1165"/>
                          <a:pt x="990" y="1112"/>
                          <a:pt x="1012" y="1020"/>
                        </a:cubicBezTo>
                        <a:cubicBezTo>
                          <a:pt x="1034" y="928"/>
                          <a:pt x="1012" y="786"/>
                          <a:pt x="1012" y="708"/>
                        </a:cubicBezTo>
                        <a:cubicBezTo>
                          <a:pt x="1012" y="630"/>
                          <a:pt x="1012" y="670"/>
                          <a:pt x="1012" y="552"/>
                        </a:cubicBezTo>
                        <a:cubicBezTo>
                          <a:pt x="1012" y="434"/>
                          <a:pt x="1012" y="115"/>
                          <a:pt x="1012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0" name="Group 42"/>
                  <p:cNvGrpSpPr/>
                  <p:nvPr/>
                </p:nvGrpSpPr>
                <p:grpSpPr>
                  <a:xfrm>
                    <a:off x="7617240" y="3639960"/>
                    <a:ext cx="170640" cy="723600"/>
                    <a:chOff x="7617240" y="3639960"/>
                    <a:chExt cx="170640" cy="723600"/>
                  </a:xfrm>
                </p:grpSpPr>
                <p:sp>
                  <p:nvSpPr>
                    <p:cNvPr id="241" name="AutoShape 43"/>
                    <p:cNvSpPr/>
                    <p:nvPr/>
                  </p:nvSpPr>
                  <p:spPr>
                    <a:xfrm>
                      <a:off x="7617240" y="4000320"/>
                      <a:ext cx="17064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7515" y="21600"/>
                          </a:lnTo>
                          <a:lnTo>
                            <a:pt x="14085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969696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AutoShape 44"/>
                    <p:cNvSpPr/>
                    <p:nvPr/>
                  </p:nvSpPr>
                  <p:spPr>
                    <a:xfrm flipV="1">
                      <a:off x="7617240" y="3639600"/>
                      <a:ext cx="17064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7515" y="21600"/>
                          </a:lnTo>
                          <a:lnTo>
                            <a:pt x="14085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969696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3" name="Oval 45"/>
                  <p:cNvSpPr/>
                  <p:nvPr/>
                </p:nvSpPr>
                <p:spPr>
                  <a:xfrm>
                    <a:off x="7676640" y="3974760"/>
                    <a:ext cx="59400" cy="57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Oval 46"/>
                  <p:cNvSpPr/>
                  <p:nvPr/>
                </p:nvSpPr>
                <p:spPr>
                  <a:xfrm>
                    <a:off x="7670160" y="4295880"/>
                    <a:ext cx="59400" cy="57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47"/>
                  <p:cNvSpPr/>
                  <p:nvPr/>
                </p:nvSpPr>
                <p:spPr>
                  <a:xfrm flipH="1" flipV="1">
                    <a:off x="7638480" y="3538080"/>
                    <a:ext cx="10080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0" h="2594">
                        <a:moveTo>
                          <a:pt x="472" y="15"/>
                        </a:moveTo>
                        <a:cubicBezTo>
                          <a:pt x="472" y="107"/>
                          <a:pt x="477" y="387"/>
                          <a:pt x="472" y="552"/>
                        </a:cubicBezTo>
                        <a:cubicBezTo>
                          <a:pt x="467" y="717"/>
                          <a:pt x="480" y="887"/>
                          <a:pt x="442" y="1005"/>
                        </a:cubicBezTo>
                        <a:cubicBezTo>
                          <a:pt x="404" y="1123"/>
                          <a:pt x="302" y="1180"/>
                          <a:pt x="247" y="1260"/>
                        </a:cubicBezTo>
                        <a:cubicBezTo>
                          <a:pt x="192" y="1340"/>
                          <a:pt x="152" y="1398"/>
                          <a:pt x="112" y="1488"/>
                        </a:cubicBezTo>
                        <a:cubicBezTo>
                          <a:pt x="72" y="1578"/>
                          <a:pt x="14" y="1706"/>
                          <a:pt x="7" y="1800"/>
                        </a:cubicBezTo>
                        <a:cubicBezTo>
                          <a:pt x="0" y="1894"/>
                          <a:pt x="25" y="1968"/>
                          <a:pt x="67" y="2055"/>
                        </a:cubicBezTo>
                        <a:cubicBezTo>
                          <a:pt x="109" y="2142"/>
                          <a:pt x="165" y="2245"/>
                          <a:pt x="262" y="2325"/>
                        </a:cubicBezTo>
                        <a:cubicBezTo>
                          <a:pt x="359" y="2405"/>
                          <a:pt x="515" y="2498"/>
                          <a:pt x="652" y="2535"/>
                        </a:cubicBezTo>
                        <a:cubicBezTo>
                          <a:pt x="789" y="2572"/>
                          <a:pt x="937" y="2594"/>
                          <a:pt x="1087" y="2550"/>
                        </a:cubicBezTo>
                        <a:cubicBezTo>
                          <a:pt x="1237" y="2506"/>
                          <a:pt x="1440" y="2366"/>
                          <a:pt x="1552" y="2268"/>
                        </a:cubicBezTo>
                        <a:cubicBezTo>
                          <a:pt x="1664" y="2170"/>
                          <a:pt x="1702" y="2069"/>
                          <a:pt x="1762" y="1965"/>
                        </a:cubicBezTo>
                        <a:cubicBezTo>
                          <a:pt x="1822" y="1861"/>
                          <a:pt x="1872" y="1759"/>
                          <a:pt x="1912" y="1644"/>
                        </a:cubicBezTo>
                        <a:cubicBezTo>
                          <a:pt x="1952" y="1529"/>
                          <a:pt x="2020" y="1309"/>
                          <a:pt x="2002" y="1275"/>
                        </a:cubicBezTo>
                        <a:cubicBezTo>
                          <a:pt x="1984" y="1241"/>
                          <a:pt x="1874" y="1355"/>
                          <a:pt x="1807" y="1440"/>
                        </a:cubicBezTo>
                        <a:cubicBezTo>
                          <a:pt x="1740" y="1525"/>
                          <a:pt x="1669" y="1690"/>
                          <a:pt x="1597" y="1785"/>
                        </a:cubicBezTo>
                        <a:cubicBezTo>
                          <a:pt x="1525" y="1880"/>
                          <a:pt x="1442" y="1953"/>
                          <a:pt x="1372" y="2010"/>
                        </a:cubicBezTo>
                        <a:cubicBezTo>
                          <a:pt x="1302" y="2067"/>
                          <a:pt x="1257" y="2113"/>
                          <a:pt x="1177" y="2130"/>
                        </a:cubicBezTo>
                        <a:cubicBezTo>
                          <a:pt x="1097" y="2147"/>
                          <a:pt x="982" y="2147"/>
                          <a:pt x="892" y="2115"/>
                        </a:cubicBezTo>
                        <a:cubicBezTo>
                          <a:pt x="802" y="2083"/>
                          <a:pt x="677" y="2022"/>
                          <a:pt x="637" y="1935"/>
                        </a:cubicBezTo>
                        <a:cubicBezTo>
                          <a:pt x="597" y="1848"/>
                          <a:pt x="612" y="1702"/>
                          <a:pt x="652" y="1590"/>
                        </a:cubicBezTo>
                        <a:cubicBezTo>
                          <a:pt x="692" y="1478"/>
                          <a:pt x="817" y="1355"/>
                          <a:pt x="877" y="1260"/>
                        </a:cubicBezTo>
                        <a:cubicBezTo>
                          <a:pt x="937" y="1165"/>
                          <a:pt x="990" y="1112"/>
                          <a:pt x="1012" y="1020"/>
                        </a:cubicBezTo>
                        <a:cubicBezTo>
                          <a:pt x="1034" y="928"/>
                          <a:pt x="1012" y="786"/>
                          <a:pt x="1012" y="708"/>
                        </a:cubicBezTo>
                        <a:cubicBezTo>
                          <a:pt x="1012" y="630"/>
                          <a:pt x="1012" y="670"/>
                          <a:pt x="1012" y="552"/>
                        </a:cubicBezTo>
                        <a:cubicBezTo>
                          <a:pt x="1012" y="434"/>
                          <a:pt x="1012" y="115"/>
                          <a:pt x="1012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Oval 48"/>
                  <p:cNvSpPr/>
                  <p:nvPr/>
                </p:nvSpPr>
                <p:spPr>
                  <a:xfrm>
                    <a:off x="7670520" y="3646800"/>
                    <a:ext cx="59400" cy="57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Line 2"/>
          <p:cNvSpPr/>
          <p:nvPr/>
        </p:nvSpPr>
        <p:spPr>
          <a:xfrm flipH="1">
            <a:off x="5688000" y="3176640"/>
            <a:ext cx="324000" cy="176364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"/>
          <p:cNvSpPr/>
          <p:nvPr/>
        </p:nvSpPr>
        <p:spPr>
          <a:xfrm>
            <a:off x="6264360" y="2744640"/>
            <a:ext cx="0" cy="212436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68360" y="873000"/>
            <a:ext cx="838836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563c1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563c1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明站在地面上准备用一个滑轮组提升重物，请在图中画出绕线的方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"/>
          <p:cNvGrpSpPr/>
          <p:nvPr/>
        </p:nvGrpSpPr>
        <p:grpSpPr>
          <a:xfrm>
            <a:off x="5148360" y="2097000"/>
            <a:ext cx="1547640" cy="4176720"/>
            <a:chOff x="5148360" y="2097000"/>
            <a:chExt cx="1547640" cy="4176720"/>
          </a:xfrm>
        </p:grpSpPr>
        <p:grpSp>
          <p:nvGrpSpPr>
            <p:cNvPr id="251" name="Group 7"/>
            <p:cNvGrpSpPr/>
            <p:nvPr/>
          </p:nvGrpSpPr>
          <p:grpSpPr>
            <a:xfrm>
              <a:off x="5575320" y="2097000"/>
              <a:ext cx="745920" cy="1158480"/>
              <a:chOff x="5575320" y="2097000"/>
              <a:chExt cx="745920" cy="1158480"/>
            </a:xfrm>
          </p:grpSpPr>
          <p:grpSp>
            <p:nvGrpSpPr>
              <p:cNvPr id="252" name="Group 8"/>
              <p:cNvGrpSpPr/>
              <p:nvPr/>
            </p:nvGrpSpPr>
            <p:grpSpPr>
              <a:xfrm>
                <a:off x="5681880" y="2167920"/>
                <a:ext cx="603360" cy="1087560"/>
                <a:chOff x="5681880" y="2167920"/>
                <a:chExt cx="603360" cy="1087560"/>
              </a:xfrm>
            </p:grpSpPr>
            <p:grpSp>
              <p:nvGrpSpPr>
                <p:cNvPr id="253" name="Group 9"/>
                <p:cNvGrpSpPr/>
                <p:nvPr/>
              </p:nvGrpSpPr>
              <p:grpSpPr>
                <a:xfrm>
                  <a:off x="5681880" y="2428560"/>
                  <a:ext cx="603360" cy="553320"/>
                  <a:chOff x="5681880" y="2428560"/>
                  <a:chExt cx="603360" cy="553320"/>
                </a:xfrm>
              </p:grpSpPr>
              <p:sp>
                <p:nvSpPr>
                  <p:cNvPr id="254" name="Oval 10"/>
                  <p:cNvSpPr/>
                  <p:nvPr/>
                </p:nvSpPr>
                <p:spPr>
                  <a:xfrm>
                    <a:off x="5681880" y="2428560"/>
                    <a:ext cx="603360" cy="55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f8f8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Oval 11"/>
                  <p:cNvSpPr/>
                  <p:nvPr/>
                </p:nvSpPr>
                <p:spPr>
                  <a:xfrm>
                    <a:off x="5765400" y="2505240"/>
                    <a:ext cx="435600" cy="399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Oval 12"/>
                  <p:cNvSpPr/>
                  <p:nvPr/>
                </p:nvSpPr>
                <p:spPr>
                  <a:xfrm>
                    <a:off x="5849280" y="2582280"/>
                    <a:ext cx="268200" cy="24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Oval 13"/>
                  <p:cNvSpPr/>
                  <p:nvPr/>
                </p:nvSpPr>
                <p:spPr>
                  <a:xfrm>
                    <a:off x="5933160" y="2658960"/>
                    <a:ext cx="100440" cy="9216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Group 14"/>
                <p:cNvGrpSpPr/>
                <p:nvPr/>
              </p:nvGrpSpPr>
              <p:grpSpPr>
                <a:xfrm>
                  <a:off x="5879520" y="2167920"/>
                  <a:ext cx="203760" cy="1087560"/>
                  <a:chOff x="5879520" y="2167920"/>
                  <a:chExt cx="203760" cy="1087560"/>
                </a:xfrm>
              </p:grpSpPr>
              <p:sp>
                <p:nvSpPr>
                  <p:cNvPr id="259" name="Freeform 15"/>
                  <p:cNvSpPr/>
                  <p:nvPr/>
                </p:nvSpPr>
                <p:spPr>
                  <a:xfrm>
                    <a:off x="5936760" y="3118680"/>
                    <a:ext cx="12024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20" h="2594">
                        <a:moveTo>
                          <a:pt x="472" y="15"/>
                        </a:moveTo>
                        <a:cubicBezTo>
                          <a:pt x="472" y="107"/>
                          <a:pt x="477" y="387"/>
                          <a:pt x="472" y="552"/>
                        </a:cubicBezTo>
                        <a:cubicBezTo>
                          <a:pt x="467" y="717"/>
                          <a:pt x="480" y="887"/>
                          <a:pt x="442" y="1005"/>
                        </a:cubicBezTo>
                        <a:cubicBezTo>
                          <a:pt x="404" y="1123"/>
                          <a:pt x="302" y="1180"/>
                          <a:pt x="247" y="1260"/>
                        </a:cubicBezTo>
                        <a:cubicBezTo>
                          <a:pt x="192" y="1340"/>
                          <a:pt x="152" y="1398"/>
                          <a:pt x="112" y="1488"/>
                        </a:cubicBezTo>
                        <a:cubicBezTo>
                          <a:pt x="72" y="1578"/>
                          <a:pt x="14" y="1706"/>
                          <a:pt x="7" y="1800"/>
                        </a:cubicBezTo>
                        <a:cubicBezTo>
                          <a:pt x="0" y="1894"/>
                          <a:pt x="25" y="1968"/>
                          <a:pt x="67" y="2055"/>
                        </a:cubicBezTo>
                        <a:cubicBezTo>
                          <a:pt x="109" y="2142"/>
                          <a:pt x="165" y="2245"/>
                          <a:pt x="262" y="2325"/>
                        </a:cubicBezTo>
                        <a:cubicBezTo>
                          <a:pt x="359" y="2405"/>
                          <a:pt x="515" y="2498"/>
                          <a:pt x="652" y="2535"/>
                        </a:cubicBezTo>
                        <a:cubicBezTo>
                          <a:pt x="789" y="2572"/>
                          <a:pt x="937" y="2594"/>
                          <a:pt x="1087" y="2550"/>
                        </a:cubicBezTo>
                        <a:cubicBezTo>
                          <a:pt x="1237" y="2506"/>
                          <a:pt x="1440" y="2366"/>
                          <a:pt x="1552" y="2268"/>
                        </a:cubicBezTo>
                        <a:cubicBezTo>
                          <a:pt x="1664" y="2170"/>
                          <a:pt x="1702" y="2069"/>
                          <a:pt x="1762" y="1965"/>
                        </a:cubicBezTo>
                        <a:cubicBezTo>
                          <a:pt x="1822" y="1861"/>
                          <a:pt x="1872" y="1759"/>
                          <a:pt x="1912" y="1644"/>
                        </a:cubicBezTo>
                        <a:cubicBezTo>
                          <a:pt x="1952" y="1529"/>
                          <a:pt x="2020" y="1309"/>
                          <a:pt x="2002" y="1275"/>
                        </a:cubicBezTo>
                        <a:cubicBezTo>
                          <a:pt x="1984" y="1241"/>
                          <a:pt x="1874" y="1355"/>
                          <a:pt x="1807" y="1440"/>
                        </a:cubicBezTo>
                        <a:cubicBezTo>
                          <a:pt x="1740" y="1525"/>
                          <a:pt x="1669" y="1690"/>
                          <a:pt x="1597" y="1785"/>
                        </a:cubicBezTo>
                        <a:cubicBezTo>
                          <a:pt x="1525" y="1880"/>
                          <a:pt x="1442" y="1953"/>
                          <a:pt x="1372" y="2010"/>
                        </a:cubicBezTo>
                        <a:cubicBezTo>
                          <a:pt x="1302" y="2067"/>
                          <a:pt x="1257" y="2113"/>
                          <a:pt x="1177" y="2130"/>
                        </a:cubicBezTo>
                        <a:cubicBezTo>
                          <a:pt x="1097" y="2147"/>
                          <a:pt x="982" y="2147"/>
                          <a:pt x="892" y="2115"/>
                        </a:cubicBezTo>
                        <a:cubicBezTo>
                          <a:pt x="802" y="2083"/>
                          <a:pt x="677" y="2022"/>
                          <a:pt x="637" y="1935"/>
                        </a:cubicBezTo>
                        <a:cubicBezTo>
                          <a:pt x="597" y="1848"/>
                          <a:pt x="612" y="1702"/>
                          <a:pt x="652" y="1590"/>
                        </a:cubicBezTo>
                        <a:cubicBezTo>
                          <a:pt x="692" y="1478"/>
                          <a:pt x="817" y="1355"/>
                          <a:pt x="877" y="1260"/>
                        </a:cubicBezTo>
                        <a:cubicBezTo>
                          <a:pt x="937" y="1165"/>
                          <a:pt x="990" y="1112"/>
                          <a:pt x="1012" y="1020"/>
                        </a:cubicBezTo>
                        <a:cubicBezTo>
                          <a:pt x="1034" y="928"/>
                          <a:pt x="1012" y="786"/>
                          <a:pt x="1012" y="708"/>
                        </a:cubicBezTo>
                        <a:cubicBezTo>
                          <a:pt x="1012" y="630"/>
                          <a:pt x="1012" y="670"/>
                          <a:pt x="1012" y="552"/>
                        </a:cubicBezTo>
                        <a:cubicBezTo>
                          <a:pt x="1012" y="434"/>
                          <a:pt x="1012" y="115"/>
                          <a:pt x="1012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0" name="Group 16"/>
                  <p:cNvGrpSpPr/>
                  <p:nvPr/>
                </p:nvGrpSpPr>
                <p:grpSpPr>
                  <a:xfrm>
                    <a:off x="5879520" y="2286000"/>
                    <a:ext cx="203760" cy="839880"/>
                    <a:chOff x="5879520" y="2286000"/>
                    <a:chExt cx="203760" cy="839880"/>
                  </a:xfrm>
                </p:grpSpPr>
                <p:sp>
                  <p:nvSpPr>
                    <p:cNvPr id="261" name="AutoShape 17"/>
                    <p:cNvSpPr/>
                    <p:nvPr/>
                  </p:nvSpPr>
                  <p:spPr>
                    <a:xfrm>
                      <a:off x="5879520" y="2703960"/>
                      <a:ext cx="20376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7515" y="21600"/>
                          </a:lnTo>
                          <a:lnTo>
                            <a:pt x="14085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969696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AutoShape 18"/>
                    <p:cNvSpPr/>
                    <p:nvPr/>
                  </p:nvSpPr>
                  <p:spPr>
                    <a:xfrm flipV="1">
                      <a:off x="5879520" y="2286000"/>
                      <a:ext cx="20376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7515" y="21600"/>
                          </a:lnTo>
                          <a:lnTo>
                            <a:pt x="14085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969696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3" name="Oval 19"/>
                  <p:cNvSpPr/>
                  <p:nvPr/>
                </p:nvSpPr>
                <p:spPr>
                  <a:xfrm>
                    <a:off x="5950800" y="2674080"/>
                    <a:ext cx="70920" cy="6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Oval 20"/>
                  <p:cNvSpPr/>
                  <p:nvPr/>
                </p:nvSpPr>
                <p:spPr>
                  <a:xfrm>
                    <a:off x="5942880" y="3047400"/>
                    <a:ext cx="70920" cy="6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Freeform 21"/>
                  <p:cNvSpPr/>
                  <p:nvPr/>
                </p:nvSpPr>
                <p:spPr>
                  <a:xfrm flipH="1" flipV="1">
                    <a:off x="5905080" y="2167920"/>
                    <a:ext cx="12024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20" h="2594">
                        <a:moveTo>
                          <a:pt x="472" y="15"/>
                        </a:moveTo>
                        <a:cubicBezTo>
                          <a:pt x="472" y="107"/>
                          <a:pt x="477" y="387"/>
                          <a:pt x="472" y="552"/>
                        </a:cubicBezTo>
                        <a:cubicBezTo>
                          <a:pt x="467" y="717"/>
                          <a:pt x="480" y="887"/>
                          <a:pt x="442" y="1005"/>
                        </a:cubicBezTo>
                        <a:cubicBezTo>
                          <a:pt x="404" y="1123"/>
                          <a:pt x="302" y="1180"/>
                          <a:pt x="247" y="1260"/>
                        </a:cubicBezTo>
                        <a:cubicBezTo>
                          <a:pt x="192" y="1340"/>
                          <a:pt x="152" y="1398"/>
                          <a:pt x="112" y="1488"/>
                        </a:cubicBezTo>
                        <a:cubicBezTo>
                          <a:pt x="72" y="1578"/>
                          <a:pt x="14" y="1706"/>
                          <a:pt x="7" y="1800"/>
                        </a:cubicBezTo>
                        <a:cubicBezTo>
                          <a:pt x="0" y="1894"/>
                          <a:pt x="25" y="1968"/>
                          <a:pt x="67" y="2055"/>
                        </a:cubicBezTo>
                        <a:cubicBezTo>
                          <a:pt x="109" y="2142"/>
                          <a:pt x="165" y="2245"/>
                          <a:pt x="262" y="2325"/>
                        </a:cubicBezTo>
                        <a:cubicBezTo>
                          <a:pt x="359" y="2405"/>
                          <a:pt x="515" y="2498"/>
                          <a:pt x="652" y="2535"/>
                        </a:cubicBezTo>
                        <a:cubicBezTo>
                          <a:pt x="789" y="2572"/>
                          <a:pt x="937" y="2594"/>
                          <a:pt x="1087" y="2550"/>
                        </a:cubicBezTo>
                        <a:cubicBezTo>
                          <a:pt x="1237" y="2506"/>
                          <a:pt x="1440" y="2366"/>
                          <a:pt x="1552" y="2268"/>
                        </a:cubicBezTo>
                        <a:cubicBezTo>
                          <a:pt x="1664" y="2170"/>
                          <a:pt x="1702" y="2069"/>
                          <a:pt x="1762" y="1965"/>
                        </a:cubicBezTo>
                        <a:cubicBezTo>
                          <a:pt x="1822" y="1861"/>
                          <a:pt x="1872" y="1759"/>
                          <a:pt x="1912" y="1644"/>
                        </a:cubicBezTo>
                        <a:cubicBezTo>
                          <a:pt x="1952" y="1529"/>
                          <a:pt x="2020" y="1309"/>
                          <a:pt x="2002" y="1275"/>
                        </a:cubicBezTo>
                        <a:cubicBezTo>
                          <a:pt x="1984" y="1241"/>
                          <a:pt x="1874" y="1355"/>
                          <a:pt x="1807" y="1440"/>
                        </a:cubicBezTo>
                        <a:cubicBezTo>
                          <a:pt x="1740" y="1525"/>
                          <a:pt x="1669" y="1690"/>
                          <a:pt x="1597" y="1785"/>
                        </a:cubicBezTo>
                        <a:cubicBezTo>
                          <a:pt x="1525" y="1880"/>
                          <a:pt x="1442" y="1953"/>
                          <a:pt x="1372" y="2010"/>
                        </a:cubicBezTo>
                        <a:cubicBezTo>
                          <a:pt x="1302" y="2067"/>
                          <a:pt x="1257" y="2113"/>
                          <a:pt x="1177" y="2130"/>
                        </a:cubicBezTo>
                        <a:cubicBezTo>
                          <a:pt x="1097" y="2147"/>
                          <a:pt x="982" y="2147"/>
                          <a:pt x="892" y="2115"/>
                        </a:cubicBezTo>
                        <a:cubicBezTo>
                          <a:pt x="802" y="2083"/>
                          <a:pt x="677" y="2022"/>
                          <a:pt x="637" y="1935"/>
                        </a:cubicBezTo>
                        <a:cubicBezTo>
                          <a:pt x="597" y="1848"/>
                          <a:pt x="612" y="1702"/>
                          <a:pt x="652" y="1590"/>
                        </a:cubicBezTo>
                        <a:cubicBezTo>
                          <a:pt x="692" y="1478"/>
                          <a:pt x="817" y="1355"/>
                          <a:pt x="877" y="1260"/>
                        </a:cubicBezTo>
                        <a:cubicBezTo>
                          <a:pt x="937" y="1165"/>
                          <a:pt x="990" y="1112"/>
                          <a:pt x="1012" y="1020"/>
                        </a:cubicBezTo>
                        <a:cubicBezTo>
                          <a:pt x="1034" y="928"/>
                          <a:pt x="1012" y="786"/>
                          <a:pt x="1012" y="708"/>
                        </a:cubicBezTo>
                        <a:cubicBezTo>
                          <a:pt x="1012" y="630"/>
                          <a:pt x="1012" y="670"/>
                          <a:pt x="1012" y="552"/>
                        </a:cubicBezTo>
                        <a:cubicBezTo>
                          <a:pt x="1012" y="434"/>
                          <a:pt x="1012" y="115"/>
                          <a:pt x="1012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Oval 22"/>
                  <p:cNvSpPr/>
                  <p:nvPr/>
                </p:nvSpPr>
                <p:spPr>
                  <a:xfrm>
                    <a:off x="5943240" y="2293200"/>
                    <a:ext cx="70920" cy="6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7" name="Group 23"/>
              <p:cNvGrpSpPr/>
              <p:nvPr/>
            </p:nvGrpSpPr>
            <p:grpSpPr>
              <a:xfrm>
                <a:off x="5575320" y="2097000"/>
                <a:ext cx="745920" cy="105120"/>
                <a:chOff x="5575320" y="2097000"/>
                <a:chExt cx="745920" cy="105120"/>
              </a:xfrm>
            </p:grpSpPr>
            <p:sp>
              <p:nvSpPr>
                <p:cNvPr id="268" name="Rectangle 24"/>
                <p:cNvSpPr/>
                <p:nvPr/>
              </p:nvSpPr>
              <p:spPr>
                <a:xfrm>
                  <a:off x="5575320" y="2097000"/>
                  <a:ext cx="705960" cy="1051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25"/>
                <p:cNvSpPr/>
                <p:nvPr/>
              </p:nvSpPr>
              <p:spPr>
                <a:xfrm>
                  <a:off x="5575320" y="2202120"/>
                  <a:ext cx="745920" cy="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Group 26"/>
            <p:cNvGrpSpPr/>
            <p:nvPr/>
          </p:nvGrpSpPr>
          <p:grpSpPr>
            <a:xfrm>
              <a:off x="5148360" y="4341960"/>
              <a:ext cx="1547640" cy="1931760"/>
              <a:chOff x="5148360" y="4341960"/>
              <a:chExt cx="1547640" cy="1931760"/>
            </a:xfrm>
          </p:grpSpPr>
          <p:grpSp>
            <p:nvGrpSpPr>
              <p:cNvPr id="271" name="Group 27"/>
              <p:cNvGrpSpPr/>
              <p:nvPr/>
            </p:nvGrpSpPr>
            <p:grpSpPr>
              <a:xfrm>
                <a:off x="5148360" y="6132600"/>
                <a:ext cx="1547640" cy="141120"/>
                <a:chOff x="5148360" y="6132600"/>
                <a:chExt cx="1547640" cy="141120"/>
              </a:xfrm>
            </p:grpSpPr>
            <p:sp>
              <p:nvSpPr>
                <p:cNvPr id="272" name="Rectangle 28"/>
                <p:cNvSpPr/>
                <p:nvPr/>
              </p:nvSpPr>
              <p:spPr>
                <a:xfrm flipV="1">
                  <a:off x="5148360" y="6132600"/>
                  <a:ext cx="1547640" cy="1411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29"/>
                <p:cNvSpPr/>
                <p:nvPr/>
              </p:nvSpPr>
              <p:spPr>
                <a:xfrm>
                  <a:off x="5148360" y="6132600"/>
                  <a:ext cx="1528560" cy="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30"/>
              <p:cNvGrpSpPr/>
              <p:nvPr/>
            </p:nvGrpSpPr>
            <p:grpSpPr>
              <a:xfrm>
                <a:off x="5681520" y="4341960"/>
                <a:ext cx="641160" cy="1791360"/>
                <a:chOff x="5681520" y="4341960"/>
                <a:chExt cx="641160" cy="1791360"/>
              </a:xfrm>
            </p:grpSpPr>
            <p:grpSp>
              <p:nvGrpSpPr>
                <p:cNvPr id="275" name="Group 31"/>
                <p:cNvGrpSpPr/>
                <p:nvPr/>
              </p:nvGrpSpPr>
              <p:grpSpPr>
                <a:xfrm>
                  <a:off x="5681520" y="4341960"/>
                  <a:ext cx="603720" cy="1087920"/>
                  <a:chOff x="5681520" y="4341960"/>
                  <a:chExt cx="603720" cy="1087920"/>
                </a:xfrm>
              </p:grpSpPr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5681520" y="4602600"/>
                    <a:ext cx="603720" cy="553320"/>
                    <a:chOff x="5681520" y="4602600"/>
                    <a:chExt cx="603720" cy="553320"/>
                  </a:xfrm>
                </p:grpSpPr>
                <p:sp>
                  <p:nvSpPr>
                    <p:cNvPr id="277" name="Oval 33"/>
                    <p:cNvSpPr/>
                    <p:nvPr/>
                  </p:nvSpPr>
                  <p:spPr>
                    <a:xfrm>
                      <a:off x="5681520" y="4602600"/>
                      <a:ext cx="603720" cy="55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f8f8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Oval 34"/>
                    <p:cNvSpPr/>
                    <p:nvPr/>
                  </p:nvSpPr>
                  <p:spPr>
                    <a:xfrm>
                      <a:off x="5765400" y="4679280"/>
                      <a:ext cx="435960" cy="399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27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Oval 35"/>
                    <p:cNvSpPr/>
                    <p:nvPr/>
                  </p:nvSpPr>
                  <p:spPr>
                    <a:xfrm>
                      <a:off x="5849280" y="4756320"/>
                      <a:ext cx="268200" cy="245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969696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Oval 36"/>
                    <p:cNvSpPr/>
                    <p:nvPr/>
                  </p:nvSpPr>
                  <p:spPr>
                    <a:xfrm>
                      <a:off x="5933160" y="4833000"/>
                      <a:ext cx="100440" cy="92160"/>
                    </a:xfrm>
                    <a:prstGeom prst="ellipse">
                      <a:avLst/>
                    </a:prstGeom>
                    <a:solidFill>
                      <a:srgbClr val="333333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37"/>
                  <p:cNvGrpSpPr/>
                  <p:nvPr/>
                </p:nvGrpSpPr>
                <p:grpSpPr>
                  <a:xfrm>
                    <a:off x="5879520" y="4341960"/>
                    <a:ext cx="203760" cy="1087920"/>
                    <a:chOff x="5879520" y="4341960"/>
                    <a:chExt cx="203760" cy="1087920"/>
                  </a:xfrm>
                </p:grpSpPr>
                <p:sp>
                  <p:nvSpPr>
                    <p:cNvPr id="282" name="Freeform 38"/>
                    <p:cNvSpPr/>
                    <p:nvPr/>
                  </p:nvSpPr>
                  <p:spPr>
                    <a:xfrm>
                      <a:off x="5936760" y="5293080"/>
                      <a:ext cx="12024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0" h="2594">
                          <a:moveTo>
                            <a:pt x="472" y="15"/>
                          </a:moveTo>
                          <a:cubicBezTo>
                            <a:pt x="472" y="107"/>
                            <a:pt x="477" y="387"/>
                            <a:pt x="472" y="552"/>
                          </a:cubicBezTo>
                          <a:cubicBezTo>
                            <a:pt x="467" y="717"/>
                            <a:pt x="480" y="887"/>
                            <a:pt x="442" y="1005"/>
                          </a:cubicBezTo>
                          <a:cubicBezTo>
                            <a:pt x="404" y="1123"/>
                            <a:pt x="302" y="1180"/>
                            <a:pt x="247" y="1260"/>
                          </a:cubicBezTo>
                          <a:cubicBezTo>
                            <a:pt x="192" y="1340"/>
                            <a:pt x="152" y="1398"/>
                            <a:pt x="112" y="1488"/>
                          </a:cubicBezTo>
                          <a:cubicBezTo>
                            <a:pt x="72" y="1578"/>
                            <a:pt x="14" y="1706"/>
                            <a:pt x="7" y="1800"/>
                          </a:cubicBezTo>
                          <a:cubicBezTo>
                            <a:pt x="0" y="1894"/>
                            <a:pt x="25" y="1968"/>
                            <a:pt x="67" y="2055"/>
                          </a:cubicBezTo>
                          <a:cubicBezTo>
                            <a:pt x="109" y="2142"/>
                            <a:pt x="165" y="2245"/>
                            <a:pt x="262" y="2325"/>
                          </a:cubicBezTo>
                          <a:cubicBezTo>
                            <a:pt x="359" y="2405"/>
                            <a:pt x="515" y="2498"/>
                            <a:pt x="652" y="2535"/>
                          </a:cubicBezTo>
                          <a:cubicBezTo>
                            <a:pt x="789" y="2572"/>
                            <a:pt x="937" y="2594"/>
                            <a:pt x="1087" y="2550"/>
                          </a:cubicBezTo>
                          <a:cubicBezTo>
                            <a:pt x="1237" y="2506"/>
                            <a:pt x="1440" y="2366"/>
                            <a:pt x="1552" y="2268"/>
                          </a:cubicBezTo>
                          <a:cubicBezTo>
                            <a:pt x="1664" y="2170"/>
                            <a:pt x="1702" y="2069"/>
                            <a:pt x="1762" y="1965"/>
                          </a:cubicBezTo>
                          <a:cubicBezTo>
                            <a:pt x="1822" y="1861"/>
                            <a:pt x="1872" y="1759"/>
                            <a:pt x="1912" y="1644"/>
                          </a:cubicBezTo>
                          <a:cubicBezTo>
                            <a:pt x="1952" y="1529"/>
                            <a:pt x="2020" y="1309"/>
                            <a:pt x="2002" y="1275"/>
                          </a:cubicBezTo>
                          <a:cubicBezTo>
                            <a:pt x="1984" y="1241"/>
                            <a:pt x="1874" y="1355"/>
                            <a:pt x="1807" y="1440"/>
                          </a:cubicBezTo>
                          <a:cubicBezTo>
                            <a:pt x="1740" y="1525"/>
                            <a:pt x="1669" y="1690"/>
                            <a:pt x="1597" y="1785"/>
                          </a:cubicBezTo>
                          <a:cubicBezTo>
                            <a:pt x="1525" y="1880"/>
                            <a:pt x="1442" y="1953"/>
                            <a:pt x="1372" y="2010"/>
                          </a:cubicBezTo>
                          <a:cubicBezTo>
                            <a:pt x="1302" y="2067"/>
                            <a:pt x="1257" y="2113"/>
                            <a:pt x="1177" y="2130"/>
                          </a:cubicBezTo>
                          <a:cubicBezTo>
                            <a:pt x="1097" y="2147"/>
                            <a:pt x="982" y="2147"/>
                            <a:pt x="892" y="2115"/>
                          </a:cubicBezTo>
                          <a:cubicBezTo>
                            <a:pt x="802" y="2083"/>
                            <a:pt x="677" y="2022"/>
                            <a:pt x="637" y="1935"/>
                          </a:cubicBezTo>
                          <a:cubicBezTo>
                            <a:pt x="597" y="1848"/>
                            <a:pt x="612" y="1702"/>
                            <a:pt x="652" y="1590"/>
                          </a:cubicBezTo>
                          <a:cubicBezTo>
                            <a:pt x="692" y="1478"/>
                            <a:pt x="817" y="1355"/>
                            <a:pt x="877" y="1260"/>
                          </a:cubicBezTo>
                          <a:cubicBezTo>
                            <a:pt x="937" y="1165"/>
                            <a:pt x="990" y="1112"/>
                            <a:pt x="1012" y="1020"/>
                          </a:cubicBezTo>
                          <a:cubicBezTo>
                            <a:pt x="1034" y="928"/>
                            <a:pt x="1012" y="786"/>
                            <a:pt x="1012" y="708"/>
                          </a:cubicBezTo>
                          <a:cubicBezTo>
                            <a:pt x="1012" y="630"/>
                            <a:pt x="1012" y="670"/>
                            <a:pt x="1012" y="552"/>
                          </a:cubicBezTo>
                          <a:cubicBezTo>
                            <a:pt x="1012" y="434"/>
                            <a:pt x="1012" y="115"/>
                            <a:pt x="1012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83" name="Group 39"/>
                    <p:cNvGrpSpPr/>
                    <p:nvPr/>
                  </p:nvGrpSpPr>
                  <p:grpSpPr>
                    <a:xfrm>
                      <a:off x="5879520" y="4460040"/>
                      <a:ext cx="203760" cy="840240"/>
                      <a:chOff x="5879520" y="4460040"/>
                      <a:chExt cx="203760" cy="840240"/>
                    </a:xfrm>
                  </p:grpSpPr>
                  <p:sp>
                    <p:nvSpPr>
                      <p:cNvPr id="284" name="AutoShape 40"/>
                      <p:cNvSpPr/>
                      <p:nvPr/>
                    </p:nvSpPr>
                    <p:spPr>
                      <a:xfrm>
                        <a:off x="5879520" y="4878360"/>
                        <a:ext cx="203760" cy="42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7515" y="21600"/>
                            </a:lnTo>
                            <a:lnTo>
                              <a:pt x="14085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969696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AutoShape 41"/>
                      <p:cNvSpPr/>
                      <p:nvPr/>
                    </p:nvSpPr>
                    <p:spPr>
                      <a:xfrm flipV="1">
                        <a:off x="5879520" y="4460040"/>
                        <a:ext cx="203760" cy="42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7515" y="21600"/>
                            </a:lnTo>
                            <a:lnTo>
                              <a:pt x="14085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969696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86" name="Oval 42"/>
                    <p:cNvSpPr/>
                    <p:nvPr/>
                  </p:nvSpPr>
                  <p:spPr>
                    <a:xfrm>
                      <a:off x="5950800" y="4848480"/>
                      <a:ext cx="70920" cy="66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Oval 43"/>
                    <p:cNvSpPr/>
                    <p:nvPr/>
                  </p:nvSpPr>
                  <p:spPr>
                    <a:xfrm>
                      <a:off x="5942880" y="5221800"/>
                      <a:ext cx="70920" cy="66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Freeform 44"/>
                    <p:cNvSpPr/>
                    <p:nvPr/>
                  </p:nvSpPr>
                  <p:spPr>
                    <a:xfrm flipH="1" flipV="1">
                      <a:off x="5905080" y="4341960"/>
                      <a:ext cx="12024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0" h="2594">
                          <a:moveTo>
                            <a:pt x="472" y="15"/>
                          </a:moveTo>
                          <a:cubicBezTo>
                            <a:pt x="472" y="107"/>
                            <a:pt x="477" y="387"/>
                            <a:pt x="472" y="552"/>
                          </a:cubicBezTo>
                          <a:cubicBezTo>
                            <a:pt x="467" y="717"/>
                            <a:pt x="480" y="887"/>
                            <a:pt x="442" y="1005"/>
                          </a:cubicBezTo>
                          <a:cubicBezTo>
                            <a:pt x="404" y="1123"/>
                            <a:pt x="302" y="1180"/>
                            <a:pt x="247" y="1260"/>
                          </a:cubicBezTo>
                          <a:cubicBezTo>
                            <a:pt x="192" y="1340"/>
                            <a:pt x="152" y="1398"/>
                            <a:pt x="112" y="1488"/>
                          </a:cubicBezTo>
                          <a:cubicBezTo>
                            <a:pt x="72" y="1578"/>
                            <a:pt x="14" y="1706"/>
                            <a:pt x="7" y="1800"/>
                          </a:cubicBezTo>
                          <a:cubicBezTo>
                            <a:pt x="0" y="1894"/>
                            <a:pt x="25" y="1968"/>
                            <a:pt x="67" y="2055"/>
                          </a:cubicBezTo>
                          <a:cubicBezTo>
                            <a:pt x="109" y="2142"/>
                            <a:pt x="165" y="2245"/>
                            <a:pt x="262" y="2325"/>
                          </a:cubicBezTo>
                          <a:cubicBezTo>
                            <a:pt x="359" y="2405"/>
                            <a:pt x="515" y="2498"/>
                            <a:pt x="652" y="2535"/>
                          </a:cubicBezTo>
                          <a:cubicBezTo>
                            <a:pt x="789" y="2572"/>
                            <a:pt x="937" y="2594"/>
                            <a:pt x="1087" y="2550"/>
                          </a:cubicBezTo>
                          <a:cubicBezTo>
                            <a:pt x="1237" y="2506"/>
                            <a:pt x="1440" y="2366"/>
                            <a:pt x="1552" y="2268"/>
                          </a:cubicBezTo>
                          <a:cubicBezTo>
                            <a:pt x="1664" y="2170"/>
                            <a:pt x="1702" y="2069"/>
                            <a:pt x="1762" y="1965"/>
                          </a:cubicBezTo>
                          <a:cubicBezTo>
                            <a:pt x="1822" y="1861"/>
                            <a:pt x="1872" y="1759"/>
                            <a:pt x="1912" y="1644"/>
                          </a:cubicBezTo>
                          <a:cubicBezTo>
                            <a:pt x="1952" y="1529"/>
                            <a:pt x="2020" y="1309"/>
                            <a:pt x="2002" y="1275"/>
                          </a:cubicBezTo>
                          <a:cubicBezTo>
                            <a:pt x="1984" y="1241"/>
                            <a:pt x="1874" y="1355"/>
                            <a:pt x="1807" y="1440"/>
                          </a:cubicBezTo>
                          <a:cubicBezTo>
                            <a:pt x="1740" y="1525"/>
                            <a:pt x="1669" y="1690"/>
                            <a:pt x="1597" y="1785"/>
                          </a:cubicBezTo>
                          <a:cubicBezTo>
                            <a:pt x="1525" y="1880"/>
                            <a:pt x="1442" y="1953"/>
                            <a:pt x="1372" y="2010"/>
                          </a:cubicBezTo>
                          <a:cubicBezTo>
                            <a:pt x="1302" y="2067"/>
                            <a:pt x="1257" y="2113"/>
                            <a:pt x="1177" y="2130"/>
                          </a:cubicBezTo>
                          <a:cubicBezTo>
                            <a:pt x="1097" y="2147"/>
                            <a:pt x="982" y="2147"/>
                            <a:pt x="892" y="2115"/>
                          </a:cubicBezTo>
                          <a:cubicBezTo>
                            <a:pt x="802" y="2083"/>
                            <a:pt x="677" y="2022"/>
                            <a:pt x="637" y="1935"/>
                          </a:cubicBezTo>
                          <a:cubicBezTo>
                            <a:pt x="597" y="1848"/>
                            <a:pt x="612" y="1702"/>
                            <a:pt x="652" y="1590"/>
                          </a:cubicBezTo>
                          <a:cubicBezTo>
                            <a:pt x="692" y="1478"/>
                            <a:pt x="817" y="1355"/>
                            <a:pt x="877" y="1260"/>
                          </a:cubicBezTo>
                          <a:cubicBezTo>
                            <a:pt x="937" y="1165"/>
                            <a:pt x="990" y="1112"/>
                            <a:pt x="1012" y="1020"/>
                          </a:cubicBezTo>
                          <a:cubicBezTo>
                            <a:pt x="1034" y="928"/>
                            <a:pt x="1012" y="786"/>
                            <a:pt x="1012" y="708"/>
                          </a:cubicBezTo>
                          <a:cubicBezTo>
                            <a:pt x="1012" y="630"/>
                            <a:pt x="1012" y="670"/>
                            <a:pt x="1012" y="552"/>
                          </a:cubicBezTo>
                          <a:cubicBezTo>
                            <a:pt x="1012" y="434"/>
                            <a:pt x="1012" y="115"/>
                            <a:pt x="1012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Oval 45"/>
                    <p:cNvSpPr/>
                    <p:nvPr/>
                  </p:nvSpPr>
                  <p:spPr>
                    <a:xfrm>
                      <a:off x="5943240" y="4467600"/>
                      <a:ext cx="70920" cy="66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0" name="Group 46"/>
                <p:cNvGrpSpPr/>
                <p:nvPr/>
              </p:nvGrpSpPr>
              <p:grpSpPr>
                <a:xfrm>
                  <a:off x="5717520" y="5431320"/>
                  <a:ext cx="605160" cy="702000"/>
                  <a:chOff x="5717520" y="5431320"/>
                  <a:chExt cx="605160" cy="702000"/>
                </a:xfrm>
              </p:grpSpPr>
              <p:sp>
                <p:nvSpPr>
                  <p:cNvPr id="291" name="Rectangle 47"/>
                  <p:cNvSpPr/>
                  <p:nvPr/>
                </p:nvSpPr>
                <p:spPr>
                  <a:xfrm>
                    <a:off x="5717520" y="5607720"/>
                    <a:ext cx="605160" cy="525600"/>
                  </a:xfrm>
                  <a:prstGeom prst="rect">
                    <a:avLst/>
                  </a:prstGeom>
                  <a:solidFill>
                    <a:srgbClr val="cfcfcf"/>
                  </a:solidFill>
                  <a:ln w="28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48"/>
                  <p:cNvSpPr/>
                  <p:nvPr/>
                </p:nvSpPr>
                <p:spPr>
                  <a:xfrm>
                    <a:off x="6003000" y="5431320"/>
                    <a:ext cx="0" cy="176400"/>
                  </a:xfrm>
                  <a:prstGeom prst="line">
                    <a:avLst/>
                  </a:prstGeom>
                  <a:ln w="2844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93" name="Line 49"/>
          <p:cNvSpPr/>
          <p:nvPr/>
        </p:nvSpPr>
        <p:spPr>
          <a:xfrm flipH="1">
            <a:off x="4859280" y="2708280"/>
            <a:ext cx="828720" cy="2449440"/>
          </a:xfrm>
          <a:prstGeom prst="line">
            <a:avLst/>
          </a:prstGeom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/>
  <dc:description/>
  <dc:language>en-US</dc:language>
  <cp:lastModifiedBy>Administrator</cp:lastModifiedBy>
  <dcterms:modified xsi:type="dcterms:W3CDTF">2019-01-09T08:49:16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